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908E-A0EE-4F4A-B255-F4547A7B8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DAC7-5F23-4D5B-8B36-5AA6E75B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F00E-7FD5-47E5-B9EF-D3951A8B9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233B-AA18-4113-8502-46F982D00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261A-B9BB-4D08-B836-5BFBEE2DD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8A30-EE2E-476B-BBC3-88065F3E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27C7-12AE-4209-93E4-D46CCA4D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36FF-540E-4F26-AE3C-708B36D0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9596-97A6-4E71-81F6-53A095AF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D194-8206-4846-839A-DE7E7C0A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2B3C-69D1-449A-9A8E-A7AC22FC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57E4-D48A-4B65-8756-0C283717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C393-CD2C-4B7E-9230-F740A9EE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1DED-6C16-4B8C-A667-4E19ACFF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E19B-BC35-4D13-A5F7-44433C02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54CB-4D91-4FA8-A90A-0C831A424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7FE4-DB55-465A-909A-E56F22FDC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4B36-2A16-45A9-937A-5B380224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0B7B-B041-4A90-9600-FBDB8778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335A-587A-432A-B573-E7DB6A8A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AC6E-9A34-44D4-8FEC-CF313482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299F-71EB-46A9-A56F-7FCB6E4A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ED8E-4707-4EC1-A76A-64C52D65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A480-9059-4CCA-81BD-86ECC0F4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26DE-A082-4F92-9F84-127F6BC1F4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FD47-F404-4C50-BC7D-AE4AF445C8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ritika a recen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2924280"/>
            <a:ext cx="6400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kulta sociálních vě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zity Karlov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tedra žurnalisti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. Nora Dolansk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cenze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řední rozsa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ychází ve specializované rubrice či části listu či v časopise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á publicistický charak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lastní názor + stručné hodnocení bez hlubší analýz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vlivňuje veřej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ublicistická kritik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bjevuje se v odborném tisk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Je zevrubná a systematick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nalyticky hodnot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yzdvihuje nejen výrazné klady či zápory, ale hledá i východis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Kritik je vlastně vykladatelem uměleckého dí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á širší kontext a uvádí souvislosti vzniku dí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á kvalitní jazykovou úrove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kriitická stať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Jde již za rámec  recenzní publicisti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je součástí odborné výkladové publicisti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měřuje ke komplexní interpretaci a nalýze všech složek dí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Má ctižádost celistvého pojetí kritiky jako met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užívá komparace s jinou námětovou prací či protichůdným stanovisk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učasní čeští kritici - publicist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Mirka Spáčilová     Věra Drápelov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Zdeněk A.Tichý     Pavel Mandy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ladimír J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an Rejž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leš Fuc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osef Chuch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ojtěch Lindaur a dalš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y kritikovy prá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mění              umělc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mělecké publik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RITI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kritikovy práce je vedlejš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ritik práci podcen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ychází z mylných estetických hod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979640" y="2852640"/>
            <a:ext cx="914400" cy="6098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16720" y="3068640"/>
            <a:ext cx="914400" cy="6094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3640" y="3068640"/>
            <a:ext cx="914400" cy="6094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16360" y="3213000"/>
            <a:ext cx="914400" cy="6098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00360" y="2781360"/>
            <a:ext cx="914400" cy="6094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32000" y="3284640"/>
            <a:ext cx="792360" cy="5760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03640" y="3213000"/>
            <a:ext cx="914400" cy="6098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59280" y="3284640"/>
            <a:ext cx="914400" cy="6094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48000" y="3141720"/>
            <a:ext cx="914400" cy="6094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4360" y="4076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76720" y="3933720"/>
            <a:ext cx="976320" cy="486000"/>
          </a:xfrm>
          <a:prstGeom prst="rightArrow">
            <a:avLst>
              <a:gd name="adj1" fmla="val 32676"/>
              <a:gd name="adj2" fmla="val 979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92360" y="3573360"/>
            <a:ext cx="914400" cy="6098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2708280"/>
            <a:ext cx="1619280" cy="1979640"/>
          </a:xfrm>
          <a:prstGeom prst="beve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3573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24000" y="3141720"/>
            <a:ext cx="9144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3640" y="2492280"/>
            <a:ext cx="2158920" cy="720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35280" y="3500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95640" y="3716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27280" y="3429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32000" y="3141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64000" y="2924280"/>
            <a:ext cx="7128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63640" y="3357720"/>
            <a:ext cx="1728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27280" y="3500280"/>
            <a:ext cx="7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1640" y="3716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4221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4221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067280" y="4508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48000" y="4365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87280" y="2781360"/>
            <a:ext cx="2664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6000" y="3716280"/>
            <a:ext cx="2735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03280" y="1989000"/>
            <a:ext cx="2735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95640" y="4221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47640" y="4221000"/>
            <a:ext cx="158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47640" y="4221000"/>
            <a:ext cx="1584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2000" y="501336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32000" y="5084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32000" y="5084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32000" y="4941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48000" y="5300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51280" y="5516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2924280"/>
            <a:ext cx="1513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19640" y="2924280"/>
            <a:ext cx="223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68360" y="29242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502320" y="4151160"/>
            <a:ext cx="2641680" cy="1981440"/>
          </a:xfrm>
          <a:prstGeom prst="rect">
            <a:avLst/>
          </a:prstGeom>
          <a:ln w="0">
            <a:noFill/>
          </a:ln>
        </p:spPr>
      </p:pic>
      <p:cxnSp>
        <p:nvCxnSpPr>
          <p:cNvPr id="177" name=""/>
          <p:cNvCxnSpPr>
            <a:stCxn id="131" idx="1"/>
            <a:endCxn id="131" idx="0"/>
          </p:cNvCxnSpPr>
          <p:nvPr/>
        </p:nvCxnSpPr>
        <p:spPr>
          <a:xfrm flipV="1">
            <a:off x="1182600" y="2017440"/>
            <a:ext cx="1905840" cy="2057760"/>
          </a:xfrm>
          <a:prstGeom prst="straightConnector1">
            <a:avLst/>
          </a:prstGeom>
          <a:ln w="0">
            <a:noFill/>
          </a:ln>
        </p:spPr>
      </p:cxnSp>
      <p:sp>
        <p:nvSpPr>
          <p:cNvPr id="178" name=""/>
          <p:cNvSpPr/>
          <p:nvPr/>
        </p:nvSpPr>
        <p:spPr>
          <a:xfrm>
            <a:off x="1835280" y="2637000"/>
            <a:ext cx="914400" cy="60948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63640" y="2492280"/>
            <a:ext cx="1079640" cy="505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08000" y="2565360"/>
            <a:ext cx="1440000" cy="719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11280" y="2276640"/>
            <a:ext cx="122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268000" y="2421000"/>
            <a:ext cx="1295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56000" y="2421000"/>
            <a:ext cx="1079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50920" y="2492280"/>
            <a:ext cx="1081080" cy="57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132000" y="2565360"/>
            <a:ext cx="1224000" cy="12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627280" y="2060640"/>
            <a:ext cx="1008000" cy="216000"/>
          </a:xfrm>
          <a:prstGeom prst="rightArrow">
            <a:avLst>
              <a:gd name="adj1" fmla="val 50000"/>
              <a:gd name="adj2" fmla="val 1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627280" y="2565360"/>
            <a:ext cx="1584360" cy="57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995640" y="2637000"/>
            <a:ext cx="1008000" cy="576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mění             umělc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RITI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mělecké publik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ílo je sice vysoce zhodnoceno, ale kritik nedokáže zprostředkovat hodnocení  a více se věnuje umělcům než dílu samotném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mění         umělc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RITI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tatní kritici    veřejn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itu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ydavat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k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dnocení je určeno více veřejným institucím a ostatním kritiků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ritik si vybral špatný titul nebo přecenil publik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mění            umělc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kum         KRITI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ální vztah mezi publikem, umělci i uměleckým dí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kum uznává názory kriti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ritik dává podnět k dialog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2124000" y="2349360"/>
            <a:ext cx="216000" cy="172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340000" y="2637000"/>
            <a:ext cx="2087640" cy="1728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050920" y="2637000"/>
            <a:ext cx="2233800" cy="158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řednosti recenzent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itlivější a vnímavější než kdokoliv jin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dat na první doj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jde jen o vynášení soud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dborné vzdělání v daném obo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opnost interpret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kázněnost vůči své  osobní prezentac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yby recenzentů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řecitlivěl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ath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exalt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ovýšen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malá povědom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ojmolog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záměrný smysl ublíž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ři základní dru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referá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recen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riti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ychází z latinských výraz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referó – oznamuj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recenseó – posuzuj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rinó - hodnotí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příště přednáška na té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                </a:t>
            </a: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publicistický  ESE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ound"/>
          <p:cNvSpPr/>
          <p:nvPr/>
        </p:nvSpPr>
        <p:spPr>
          <a:xfrm>
            <a:off x="826920" y="2924280"/>
            <a:ext cx="1810080" cy="18097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6011640" y="2923920"/>
            <a:ext cx="1809720" cy="18097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500720" y="691920"/>
            <a:ext cx="0" cy="48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67280" y="2781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522936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24360" y="530064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řejnost            kritik               tvůr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ákladem  antická filosofi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lat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ěnoval se podstatě krásy jako takov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l zdrženlivý a skeptický, pokud šlo o užitečnost a potřebnost umě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ristote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 jeho spisů se zachoval pouze zlom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prvé vydal ucelený výklad o charakteru umění a jeho vztahu ke skuteč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 antickou filosofii navazoval středověk, zejména v období renesance – 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měr kriticismu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- jenž měl směřovat k vytýčení vad a jejich nápravě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to kritika byla měla být proniknuta charakterem svého pěstite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znik v české publicistice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Zakladatel Karel Sabi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an Neruda – kritik výtvarného umě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 meziválečném období  F.X.Šal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arel  Engelmu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osef Tra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rité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ět základních kritérií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uzování dobra a krás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ztah jedince a společ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nitřní výraz duš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ztah historie a součas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ztah domova a svě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ude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ze zpravodajsk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 výstižn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 stručn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všeobsažn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ní výrazná osobnost recenzen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často anonym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á především informační hodnot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át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ejjednodušší druh textu, navazující na kulturní zpravodajstv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ručn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ktografick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formativ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louží k orientaci se na kulturní či vědecké scén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emá odborné amb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9T20:15:52Z</dcterms:created>
  <dc:creator>Nora Dolanská</dc:creator>
  <dc:description/>
  <dc:language>en-US</dc:language>
  <cp:lastModifiedBy>Nora Dolanská</cp:lastModifiedBy>
  <dcterms:modified xsi:type="dcterms:W3CDTF">2002-04-27T19:45:42Z</dcterms:modified>
  <cp:revision>7</cp:revision>
  <dc:subject/>
  <dc:title>Kritika a recenze</dc:title>
</cp:coreProperties>
</file>