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Nora Dolanská" initials="N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2-04-27T21:35:44.457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E77-3AAC-4984-B940-7161C157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27A-290A-4674-A758-C882964B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5B4-4E38-49B0-89BF-ECA98970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186-D70A-420A-9629-5D8FE263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643D-B359-49D0-A7BC-D2FE4C79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04B9-38B1-461A-864D-7252C944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CC7C-3E54-494E-B373-EDA6C36F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E593-1320-4E79-90B6-07DFB2DC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49B1-90EC-4E4C-AEE5-BAE97109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15EA-9B76-4D83-8C8A-02199A14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EA62-510B-4900-8EBF-F4178831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B84-92EC-4A72-B2CF-78836DB3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8B7C-59DD-4409-9DF5-1D1B7236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23CC-32F2-41FF-B00B-1C7D6350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1374-59C3-4707-A313-5B7D11D3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AD06-4F60-49B9-B4EE-42ABCCA7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6AC4-05A0-4B57-9BAE-EFF31A48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79B-4F99-41FA-813B-44D893D9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50C-FE17-41E9-8F6A-669FD737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5EE-DDDF-4C79-B0DE-C6BAF24E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30B-BFB5-4840-92B4-4470927B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B71-DCFB-484D-AF35-4FD81B26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1CC-E813-41BF-98C5-E24F2141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D57-9E2F-474C-889A-370F496F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A1EA-0327-4C74-B9D2-51BF60A5EE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C86E-90D5-4FA2-B4C8-41E5BA6136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kult sociálních vě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zity Karlov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Nora Dolansk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476360" y="206064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alda František Xav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. kritik, lit. vědec, prozaik, básník a dramatik, * 22. 12. 1867 Liberec, † 4. 4. 1937 Praha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833400"/>
            <a:ext cx="38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.X.Šal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003640" y="3530520"/>
            <a:ext cx="27781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edoucí osobnost lit. generace 90. let, zakladatel moderní č. kritiky, od r. 1918 profesor románských literatur na pražské univerzitě. Svými kritikami i osobní autoritou ovlivňoval č. písemnictví a celý kult. život až do 30. let. Zapůsobil na proměnu kritiky v samostatný útvar nár. lit. a vytvořil podobu moderního eseje o uměleckých otázkách. Za nejvyšší hodnotu umění považoval hloubku, opravdovost prožitku tvořivého jedince a schopnost díla aktivně zasáhnout do skutečnosti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Boje o zítřek, 1905, Duše a dílo, 1913).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Podpořil nástup nových uměleckých tendencí, zvl. generace Wolkrovy a Nezvalovy (O nejmladší poezii české, 1928). 1928–37 vydával ča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Šaldův zápisník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, který vyplňoval vlastními krit. statěmi, básněmi a polit. komentáři. Autor studií o cizích básnících (Básnická osobnost Dantova, 1921, J. A. Rimbaud, božský rošťák, 1930, aj.), povídek dramaticky vypjatých situací (Život ironický a jiné povídky, 1912), filosofujícího románu o podstatě tvůrčí osobnosti (Loutky i dělníci boží, 1917), meditativních lyrických básní (Strom bolesti, 1920, Nova et vetera, 1938) a dramat (Zástupové, 1921, Dítě, 1923, Tažení proti smrti, 1926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91160" y="2017800"/>
            <a:ext cx="291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časní autoř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 kruhů vědeckých pracovník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pularizace umění a vě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apř. Václav Havel,  Václav Bělohradsk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Egon Bondy, Svatopluk Karásek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ilan Knížák, Martin Hilský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osef Chuchma, František Koukolík,Petr Čornej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etr Chudožilov a dalš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pis Respekt, odborná filosofická a společensko - vědní period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ohové zvláštnos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ba témati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átkový okru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kční zaměř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vláštní způsob sdělování fakt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ejistický sty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r eseje chce nejen vyvolat zájem o určitý problém,ale rovněž vyprovokovává k reak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m principem ese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cs-CZ" sz="3200" spc="-1" strike="noStrike">
                <a:solidFill>
                  <a:srgbClr val="800000"/>
                </a:solidFill>
                <a:latin typeface="Tahoma"/>
              </a:rPr>
              <a:t>SYNTÉ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ákladní tři faktory tvorby ese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ědeck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vahovos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bjektivní přís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803920" y="1760400"/>
            <a:ext cx="197964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pekty ese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ví autora před úkol, aby sám zhodnotil svůj podíl na vývoji zvolené tématiky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y prezentoval i své vlastní omyly a nezda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odstupem času zhodnotil a uvedl do dobových souvislostí nové poznat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spěl osobním šarmem a zkušeností k tématu a osobním příkladem vedl diskuz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íště  přenáška na té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vinová povíd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ej - ess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say = zkouška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k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francouzšti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angličtině znamen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koušku tvrdosti ko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ásnické přirovnání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kteristický rys = uvědomělá subjektivita poje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dná se o druh umělecké prózy, středně rozsáhlé literárně a kriticky zaměřené, pro níž autor čerpá do hloubky a pojednává o problému novým, aktuálním pojetí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čát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obně jako črta leží na pomezí publicistiky a umělecké literatu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843280" y="3716280"/>
            <a:ext cx="3529800" cy="2304720"/>
            <a:chOff x="2843280" y="3716280"/>
            <a:chExt cx="3529800" cy="2304720"/>
          </a:xfrm>
        </p:grpSpPr>
        <p:sp>
          <p:nvSpPr>
            <p:cNvPr id="107" name="_s3085"/>
            <p:cNvSpPr/>
            <p:nvPr/>
          </p:nvSpPr>
          <p:spPr>
            <a:xfrm>
              <a:off x="3455640" y="3716280"/>
              <a:ext cx="1368360" cy="1315800"/>
            </a:xfrm>
            <a:prstGeom prst="ellipse">
              <a:avLst/>
            </a:prstGeom>
            <a:solidFill>
              <a:srgbClr val="ffcf01">
                <a:alpha val="50000"/>
              </a:srgbClr>
            </a:solidFill>
            <a:ln w="468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3086"/>
            <p:cNvSpPr/>
            <p:nvPr/>
          </p:nvSpPr>
          <p:spPr>
            <a:xfrm>
              <a:off x="4340160" y="3985920"/>
              <a:ext cx="7743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091"/>
            <p:cNvSpPr/>
            <p:nvPr/>
          </p:nvSpPr>
          <p:spPr>
            <a:xfrm>
              <a:off x="2843280" y="4508280"/>
              <a:ext cx="1315800" cy="13683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3092"/>
            <p:cNvSpPr/>
            <p:nvPr/>
          </p:nvSpPr>
          <p:spPr>
            <a:xfrm>
              <a:off x="5599080" y="5749560"/>
              <a:ext cx="774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3089"/>
            <p:cNvSpPr/>
            <p:nvPr/>
          </p:nvSpPr>
          <p:spPr>
            <a:xfrm>
              <a:off x="3671640" y="4581360"/>
              <a:ext cx="1441080" cy="14396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3090"/>
            <p:cNvSpPr/>
            <p:nvPr/>
          </p:nvSpPr>
          <p:spPr>
            <a:xfrm>
              <a:off x="3081240" y="5751360"/>
              <a:ext cx="7743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987640" y="40752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ásná lit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4941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žurnalis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4869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borná lit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995640" y="4005000"/>
            <a:ext cx="2016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61760" y="369900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znik ese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ermín se ujal podle stejnojmenné knihy zakladatele žán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ilosofa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ichela de Montaigne (1533-159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580 vydal knihu filosofických drobných traktátů s názvem „Essays“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nichž uvažuje o  problémech soudobé společnosti s nového pohl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Tahoma"/>
              </a:rPr>
              <a:t>Přibližuje se ke čtenáři a snaží se podat záměr přirozenou cestou výkla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 deníku – 107 kapit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hce naučit žít, rozebírá možnosti uspokojení na tomto světě, chce nalést sám se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lší zakladatel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Francis BACON ( 1561- 162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londýnský vědec a filosof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obně jako Montaigne vydal v roce 1597 knihu „Essays“ – náboženské úva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platné soudobé morál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 Anglii záhy žánr do publicistik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aniel Defo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onathan Swi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pisy                          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Spectator a Tat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ejména v oblasti morálky a výchov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itický es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ejména v Němec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einische Zei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íky Hegelově fiosofii práva se dostává mimo vědecké pojet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Lessing, He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esejistické úvahy s aforistickým vyjádřením, k nimž němci inklinují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rní evropský es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G.B.Sha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scar Wilde       James Joy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athalie Sarraut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edstavitelé poválečné vlny „nového románu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lain Bobbe-Gril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ichel Butor ( eseje o Baudelairo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ej 20.stolet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elký vliv na český es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Hypolit Taine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(1828- 1892), jehož výklady byly popularizátorskými výklady vědeckých problém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sal do Journal des Deb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eux mon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Eseje o La fontainových bajká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ilosofie umě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Čeští autoř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rodky u Komenskéh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hledání dobových souvislostí Dobrovský a Jungman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dchůdci v publicistice K.H.Borovský, K.Sabina, autoři kolem České moder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B. Václav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Arnošt Procház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.Břez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.X.Šalda – viz dá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A.M.Píš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.Čap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ítězslav Nez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áclav Čern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20:17:26Z</dcterms:created>
  <dc:creator>Nora Dolanská</dc:creator>
  <dc:description/>
  <dc:language>en-US</dc:language>
  <cp:lastModifiedBy>Nora Dolanská</cp:lastModifiedBy>
  <dcterms:modified xsi:type="dcterms:W3CDTF">2002-04-27T19:42:41Z</dcterms:modified>
  <cp:revision>14</cp:revision>
  <dc:subject/>
  <dc:title>Esej</dc:title>
</cp:coreProperties>
</file>