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EBA-FEAC-408F-A799-AF32A30D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223-1B64-49F1-9CE1-2DAE2428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6D2-CE31-44F6-8514-822F103D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003-EDA8-4C72-A023-B53795DD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24B0-9927-47DF-9C1A-EACE33B1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A46C-9A35-4FE8-879A-4480FCA0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A3C9-E29F-4EB8-AE26-C8D0A0AC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CA9F-F703-4279-8910-57C49C12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0439-D6A9-46BE-AC32-1FCAB98E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A018-D79E-402D-96ED-6D235D98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D2B8-1188-44E1-9CB5-D246B50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423-7F97-4E87-9EBF-D5144289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232A-3F25-48D1-B4C9-17A017F0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F7EB-1900-47A6-B3BF-AB09185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026B-C7AA-4C53-B297-45B4E0AF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9DFD-14CB-43FA-975D-90D5AECE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824-B77C-4FEB-ABEB-F33DBC5C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1C8-C52C-4F7F-B631-E87618F4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30F-FB76-42C2-81A2-4FDB183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E38-CC08-48C4-B2C2-BAD62766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078-53B0-4D6E-BEAD-F7D4AE88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ED8-4E49-4018-A97D-C1F721B5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13B-1147-4A43-96D0-5925294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130-9E3A-42BB-9280-8C4CA101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AA5D-3527-4756-8229-79B072AEEA7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B70A-1B54-441A-B775-4785066271DE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et rad pro začínající publicisty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Záměry a ideje kreativního psaní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Nora Dolansk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V U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. zkracujte, zkracujte, zkracujte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dině krácením dostane text na dynamice a přes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jadřujte se stručně a výstižně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4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6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.  nepodceňujte čtenář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sekávejte text do krátkých odstavců, nepopisujte situace do detailu a nesnažte se všechno slovy vysvětl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šte v krátkých větách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zahlcujte text sloves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olečenský profil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is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iv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větový názor, orienta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yntéza názor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životní zkušenos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sobní prožitk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„druhá“ profe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nanční zázem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estování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dlouhý pobyt však má negativní důsledk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sychologický profil publicis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ři základní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o člověk chce –otázka postojů, ideá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čeho je schopen – otázka schop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čím je – otázka charakte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razotvornost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antazi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ac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přijímání dojmů, tvorba záměr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ědomí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kontrola snu a reálného živo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měť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ond reálií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ůle k prác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otázka seberealiz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draví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iologické dispozi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eriál pro tvorb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kopisné koncepty, náč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respond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árová svědec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právění starší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ivy výcho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ážitky z mlád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zyková průpr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ava v tvůrčím proce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15800" y="2176560"/>
            <a:ext cx="5705640" cy="3040200"/>
            <a:chOff x="2215800" y="2176560"/>
            <a:chExt cx="5705640" cy="3040200"/>
          </a:xfrm>
        </p:grpSpPr>
        <p:sp>
          <p:nvSpPr>
            <p:cNvPr id="129" name="_s29703"/>
            <p:cNvSpPr/>
            <p:nvPr/>
          </p:nvSpPr>
          <p:spPr>
            <a:xfrm>
              <a:off x="4297320" y="2716200"/>
              <a:ext cx="1542960" cy="154332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9704"/>
            <p:cNvSpPr/>
            <p:nvPr/>
          </p:nvSpPr>
          <p:spPr>
            <a:xfrm>
              <a:off x="4297320" y="217656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 ch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ů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9705"/>
            <p:cNvSpPr/>
            <p:nvPr/>
          </p:nvSpPr>
          <p:spPr>
            <a:xfrm>
              <a:off x="4805280" y="3597480"/>
              <a:ext cx="1542960" cy="15429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9706"/>
            <p:cNvSpPr/>
            <p:nvPr/>
          </p:nvSpPr>
          <p:spPr>
            <a:xfrm>
              <a:off x="6378480" y="4830840"/>
              <a:ext cx="1542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 um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chopnos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9707"/>
            <p:cNvSpPr/>
            <p:nvPr/>
          </p:nvSpPr>
          <p:spPr>
            <a:xfrm>
              <a:off x="3787560" y="3595680"/>
              <a:ext cx="1542960" cy="15433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9708"/>
            <p:cNvSpPr/>
            <p:nvPr/>
          </p:nvSpPr>
          <p:spPr>
            <a:xfrm>
              <a:off x="2215800" y="4830840"/>
              <a:ext cx="15433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o můž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harak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istorie rešeršov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852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ohn Delane „ povinnost žurnalisty je stejně jako historika uvést věci na pravou míru a svým čtenářům nepředstavovat pouze to, co chce vláda, aby veřejnost věděla…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prvé se rešerše objevila u reportáž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 Americe jako druh - fact story 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rešeršov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klad pro další novinářskou tvor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izace v rámci konkrétního žán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ískávání informa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ba tématu vzhledem k zaměření lis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ěřová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trování informac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 co je nutné se ptá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á téma skutečně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šeobecnou poplatnost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ajímají alespoň část veřejnosti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sou informace, kter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stávám, k věci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sou informace precizn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rozumitelné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šířky- souvislosti, které předcházejí a následuj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hloubky – rekonstrukce, účast a role zúčastněný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30360" y="2755440"/>
            <a:ext cx="2452680" cy="981000"/>
            <a:chOff x="6030360" y="2755440"/>
            <a:chExt cx="2452680" cy="981000"/>
          </a:xfrm>
        </p:grpSpPr>
        <p:cxnSp>
          <p:nvCxnSpPr>
            <p:cNvPr id="143" name="_s50192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7503120" y="2915280"/>
              <a:ext cx="169560" cy="660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1c1c1c"/>
              </a:solidFill>
              <a:miter/>
            </a:ln>
          </p:spPr>
        </p:cxnSp>
        <p:cxnSp>
          <p:nvCxnSpPr>
            <p:cNvPr id="146" name="_s50190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6843240" y="2915280"/>
              <a:ext cx="169560" cy="660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45" name="_s50186"/>
            <p:cNvSpPr/>
            <p:nvPr/>
          </p:nvSpPr>
          <p:spPr>
            <a:xfrm>
              <a:off x="6690960" y="2755440"/>
              <a:ext cx="1131840" cy="392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rešerš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50187"/>
            <p:cNvSpPr/>
            <p:nvPr/>
          </p:nvSpPr>
          <p:spPr>
            <a:xfrm>
              <a:off x="6030360" y="3344040"/>
              <a:ext cx="1131840" cy="392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o šířk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50189"/>
            <p:cNvSpPr/>
            <p:nvPr/>
          </p:nvSpPr>
          <p:spPr>
            <a:xfrm>
              <a:off x="7351200" y="3344040"/>
              <a:ext cx="1131840" cy="3924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o hloubk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Investigativní žurnalis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rva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ezře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Lstiv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stematič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cond hand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ournalismus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k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úplat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prava na nebezpečné situ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naučte se psát v žánr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áseň x povídka) -         zná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y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x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loupek x esej) -             zná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élk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x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úvodník x recenze) -      zná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u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x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y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vinové výstřiž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fonická anke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kazy z interne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ěřování neutrálnosti inform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sychologický back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priorní nedůvě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eustálá zvědav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etody investigativní žurnalisti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í otázky při rešeršov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vývoj situace došel tak daleko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emu nebo komu problém slouží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do jej za něj zodpovědný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 problém vadí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 přinese užitek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 se problémem sleduj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stup při rešeršová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ždy z vnějšku k jádru problé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ždý rešeršující by měl dělat protokol o jednání s konkrétními úda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jméno,datum,funkce, č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zúčastnění,neutrální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účastnění, ale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rajov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dpovědní pracovníci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hlavní aktéři děje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761760" cy="8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20068200">
            <a:off x="5364000" y="2781000"/>
            <a:ext cx="2087640" cy="2120760"/>
          </a:xfrm>
          <a:prstGeom prst="flowChartOr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tné ingredience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v výstřižků, z nichž lze čerpat souvislosti k potřebnému zázemí problém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ždy po ruce sbírky zákonů, opírat se o ty části zákona, kde je výklad jednoznač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znam pracovníků, kteří mohou být dobrým zdrojem informac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řídit si síť organizací, která má zájem spolupracov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znam adres na internetu, kde možno jednoduše hledat další souvislosti, kde jsou informace opravd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ěrohod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íšt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přednáška na tém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sloupek a feje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naučit se psát konkrétním prostředk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ací blok, vlastní poznámky, psaní ruk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ací str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book , počíta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louvání textů, nechat přepisov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najděte si stálé místo k psa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čete si v bytě, v pokoji, na kolej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ást prostoru, kde se bude odehrávat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áměrn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vůrčí proces, toto místo nezaměňuj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 jiné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veďte si vlastní dení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měť je jedním z nejdůležitějších prvků pro tvůrčí psa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zaznamenávejte 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jste viděli v naprosto obyčejných situacích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č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jste přemýšle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 lidé k sobě chov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pisujte si vyprávění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uhých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o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5.naučte se přepisov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kažte se vrátit k napsanému a přepsat situaci, znovu uzavřít pointou text a přepsat základní záplet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sadně přepisujte první odstavec tex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.Čapek, Ota Pavel, E.E. Kisch ap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.vyčleňte si pravidelný čas na psa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učte se věnovat literární prá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r a v i d e l n ě určitou část svého volného čas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pravidelném režimu (týdne, měsíce apo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kažte tento režim dodržet za každou cenu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 nedopisujte v konkrétním čase text do k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ažte se začít nový text či nedopisujte záměrně v jednom termínu text do k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ržujte sami sebe v napětí tvůrčího procesu a těšte se na další psaní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. dávejte své texty čí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ed definitivním odevzdáním textu  zkuste korigovat své názory se svými nepřáte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bo s lidmi s odlišným pohledem na svě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rigujte a dejte na mínění jiný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echte si však nikdy mluvit do stylu tex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5:38:16Z</dcterms:created>
  <dc:creator>Nora Dolanská</dc:creator>
  <dc:description/>
  <dc:language>en-US</dc:language>
  <cp:lastModifiedBy>PhDr. Nora Dolanská</cp:lastModifiedBy>
  <dcterms:modified xsi:type="dcterms:W3CDTF">2002-11-05T15:58:21Z</dcterms:modified>
  <cp:revision>7</cp:revision>
  <dc:subject/>
  <dc:title>Deset rad pro začínající publicisty</dc:title>
</cp:coreProperties>
</file>