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D48-AE7F-4369-B5D1-7888B71E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F03-CB93-4466-ADE7-BC95DCCF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484-1816-496D-9B6C-7B191A6F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9CB-CA2B-474C-BA40-359A1AA1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703A-3D9B-4389-8ABC-D3A66CB3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1A4C-E2EF-4798-9443-CB05655B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043C-50A3-485F-AAD6-FEEF9463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634A-5946-4958-B629-5CF09047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BA4D-0822-477F-991D-6DC79BC6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93C9-97C1-49C9-AE55-D43A1B8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25B9-49F6-44B5-84A7-F2A9D2E7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CA5-8447-4E64-A377-1785236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6BA8-10F6-4ABC-879B-E5E029E2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9D07-1DA9-484D-A5AB-FCAE71C4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9FB7-BF7F-47C2-B8E9-F3B192A6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2A7-F376-46D1-BBDC-665D453C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4D53-E986-4510-A440-297A6100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FE0-089B-40B3-8815-14D1876D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D45-3DD7-4236-8AAA-8F4BC95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F39-C067-4CF6-A4E8-7E911788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230-7054-4E9A-B26F-7FD6FD8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47F-7DDF-4C98-A7B2-2F14E0B6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139-757A-41F7-9C85-2F42C06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48D-8CE6-4DA8-A154-CCB051EB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6A2-FE48-4B93-97B4-B6CFDDC6F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877-4489-41EC-B1E8-CCC4299875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vinová povíd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kulta sociálních vě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zity Karlov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Nora Dolansk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 anekdoty malá povíd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í mít lakonický charak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končenou struktu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ý rozsah neovlivňuje velký obs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centrace materiál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ýběr nejnutnějších prvk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 novinovou povídku aktualiz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724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novinové povíd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an Neru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lostranské povídky původně pro noviny 13 pró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vní Týden v tichém domě – otištěna 186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auza -  až v roce 1875 napsal 4 nové próz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eprve pak dostal nápad spojit je do soubo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ítězslav Há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lší autoři české novinové povíd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František Lan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roslav Haš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duard B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rel Poláč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arel Čap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Eduard Petiš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ohumil Hra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orbert Frý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udvík Souč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iří Grossman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Iva Procházkov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iří Me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n Kostrh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áchym Top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ve svět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- romantismus 19.atole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-realistické vykreslení života konec 19.stolet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lasici ve světě : nap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.P. Čechov, E. Hemingway, V. Šukši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.Babel, E.A. Poe, J.London,J.S.Salinge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. Saroy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novinové povídce musí postava být srozumiteln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ždé jednání musí  mít zámě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ava je závislá na životních zkušenostech aut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kutečná  literární postava je svébytným výtv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stava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nější polari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13960" y="1646280"/>
            <a:ext cx="4908600" cy="4858560"/>
            <a:chOff x="2613960" y="1646280"/>
            <a:chExt cx="4908600" cy="4858560"/>
          </a:xfrm>
        </p:grpSpPr>
        <p:sp>
          <p:nvSpPr>
            <p:cNvPr id="145" name="_s8200"/>
            <p:cNvSpPr/>
            <p:nvPr/>
          </p:nvSpPr>
          <p:spPr>
            <a:xfrm>
              <a:off x="3246840" y="2322360"/>
              <a:ext cx="3643200" cy="3506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8201"/>
            <p:cNvSpPr/>
            <p:nvPr/>
          </p:nvSpPr>
          <p:spPr>
            <a:xfrm rot="7200000">
              <a:off x="3314880" y="2253600"/>
              <a:ext cx="3506760" cy="3643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8203"/>
            <p:cNvSpPr/>
            <p:nvPr/>
          </p:nvSpPr>
          <p:spPr>
            <a:xfrm rot="14400000">
              <a:off x="3314880" y="2253960"/>
              <a:ext cx="3506760" cy="3643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8198"/>
            <p:cNvSpPr/>
            <p:nvPr/>
          </p:nvSpPr>
          <p:spPr>
            <a:xfrm>
              <a:off x="5827320" y="2810160"/>
              <a:ext cx="1110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 mysl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ředpoklad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8199"/>
            <p:cNvSpPr/>
            <p:nvPr/>
          </p:nvSpPr>
          <p:spPr>
            <a:xfrm>
              <a:off x="4515480" y="5002200"/>
              <a:ext cx="1110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 cít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žnost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8202"/>
            <p:cNvSpPr/>
            <p:nvPr/>
          </p:nvSpPr>
          <p:spPr>
            <a:xfrm>
              <a:off x="3198960" y="2811240"/>
              <a:ext cx="1110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ak jedn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chopnost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stava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nitřní polarit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613960" y="1646280"/>
            <a:ext cx="4908600" cy="4858560"/>
            <a:chOff x="2613960" y="1646280"/>
            <a:chExt cx="4908600" cy="4858560"/>
          </a:xfrm>
        </p:grpSpPr>
        <p:sp>
          <p:nvSpPr>
            <p:cNvPr id="153" name="_s10248"/>
            <p:cNvSpPr/>
            <p:nvPr/>
          </p:nvSpPr>
          <p:spPr>
            <a:xfrm>
              <a:off x="3246840" y="2322360"/>
              <a:ext cx="3643200" cy="3506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249"/>
            <p:cNvSpPr/>
            <p:nvPr/>
          </p:nvSpPr>
          <p:spPr>
            <a:xfrm rot="7200000">
              <a:off x="3314880" y="2253600"/>
              <a:ext cx="3506760" cy="3643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251"/>
            <p:cNvSpPr/>
            <p:nvPr/>
          </p:nvSpPr>
          <p:spPr>
            <a:xfrm rot="14400000">
              <a:off x="3314880" y="2253960"/>
              <a:ext cx="3506760" cy="3643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246"/>
            <p:cNvSpPr/>
            <p:nvPr/>
          </p:nvSpPr>
          <p:spPr>
            <a:xfrm>
              <a:off x="5827320" y="2810160"/>
              <a:ext cx="1110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 ch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úsilí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247"/>
            <p:cNvSpPr/>
            <p:nvPr/>
          </p:nvSpPr>
          <p:spPr>
            <a:xfrm>
              <a:off x="4515480" y="5002200"/>
              <a:ext cx="1110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 můž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harak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250"/>
            <p:cNvSpPr/>
            <p:nvPr/>
          </p:nvSpPr>
          <p:spPr>
            <a:xfrm>
              <a:off x="3198960" y="2811240"/>
              <a:ext cx="1110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 mus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ů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og v povíd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povídce nelze dialog zachytit jako v běžné publicistice ( hlavní slovo má táza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 v povídce slouží ke sdělení myšlenky aut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r si musí představit, co by si postavy ve skutečnosti v dané situaci řekly a tím posunovat děj kupř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alog slouží k vývoji situ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ždá zbytečná replika děj zpomaluje a ztrácí pozornost čtenář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zyk dialogu musí odpovídat charakteru postavy – nutná identita mezi postavou a řeč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čení v tex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mingway říká, že píše- li autor o čem co opravdu dobře zná a něco vynechá- je-li to poctivě napsáno, čtenář bez textu pozná, co chtěl autor ří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ahoma"/>
              </a:rPr>
              <a:t>Potenciál pro poví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7x více myšlenek, vědění a ci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7x násobek informací by mělo být řečeno mimo 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vůrčí autorské  meto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lstoj i Čechov měli anketní lístky svých hrdinů ( charakter, vztahy, duševní charakteristi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fická příprava vztah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ležitý předpoklad pro systematičnost v povíd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vinová povídka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ce konkrétních souvislostí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13960" y="1646280"/>
            <a:ext cx="4908600" cy="4858560"/>
            <a:chOff x="2613960" y="1646280"/>
            <a:chExt cx="4908600" cy="4858560"/>
          </a:xfrm>
        </p:grpSpPr>
        <p:sp>
          <p:nvSpPr>
            <p:cNvPr id="103" name="_s4104"/>
            <p:cNvSpPr/>
            <p:nvPr/>
          </p:nvSpPr>
          <p:spPr>
            <a:xfrm>
              <a:off x="3246840" y="2322360"/>
              <a:ext cx="3643200" cy="3506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105"/>
            <p:cNvSpPr/>
            <p:nvPr/>
          </p:nvSpPr>
          <p:spPr>
            <a:xfrm rot="7200000">
              <a:off x="3314880" y="2253600"/>
              <a:ext cx="3506760" cy="3643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107"/>
            <p:cNvSpPr/>
            <p:nvPr/>
          </p:nvSpPr>
          <p:spPr>
            <a:xfrm rot="14400000">
              <a:off x="3314880" y="2253960"/>
              <a:ext cx="3506760" cy="36432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2"/>
            <p:cNvSpPr/>
            <p:nvPr/>
          </p:nvSpPr>
          <p:spPr>
            <a:xfrm>
              <a:off x="5827320" y="2810160"/>
              <a:ext cx="1110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ktualiz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103"/>
            <p:cNvSpPr/>
            <p:nvPr/>
          </p:nvSpPr>
          <p:spPr>
            <a:xfrm>
              <a:off x="4515480" y="5002200"/>
              <a:ext cx="1110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lavní hrd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ě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6"/>
            <p:cNvSpPr/>
            <p:nvPr/>
          </p:nvSpPr>
          <p:spPr>
            <a:xfrm>
              <a:off x="3198960" y="2811240"/>
              <a:ext cx="1110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ís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stor  pro příbě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říklad grafické přípravy na povídk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Text povídky Wiliama Saroyana o chlapci, který sedí u krbu a čeká na svého otce, který se vrátí z práce a přivede s sebou novou ženu. Chlapec má úkol udržet teplo v domě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d příchodem chlapec zapálí polenem z krbu dů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Otázk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Proč je chlapec doma sám a nejde do ško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proč čeká na ot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proč čeká na příchod nové žen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jaký je vztah chlapce k nové ženě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jaký je vztah otce a nové žen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proč udělá chlapec nakonec to, co udělá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jaký je vztah chlapce a ot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ka chlap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285264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5231520" y="3561480"/>
            <a:ext cx="769680" cy="936360"/>
          </a:xfrm>
          <a:prstGeom prst="wedgeRectCallout">
            <a:avLst>
              <a:gd name="adj1" fmla="val -80342"/>
              <a:gd name="adj2" fmla="val 293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486900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73800" y="377820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la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0720" y="4761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567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vá ž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020000" y="1915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516720" y="3933720"/>
            <a:ext cx="1008000" cy="503280"/>
            <a:chOff x="6516720" y="3933720"/>
            <a:chExt cx="1008000" cy="503280"/>
          </a:xfrm>
        </p:grpSpPr>
        <p:sp>
          <p:nvSpPr>
            <p:cNvPr id="176" name=""/>
            <p:cNvSpPr/>
            <p:nvPr/>
          </p:nvSpPr>
          <p:spPr>
            <a:xfrm>
              <a:off x="6759360" y="4036320"/>
              <a:ext cx="519480" cy="3085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6720" y="4334400"/>
              <a:ext cx="298440" cy="102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71320" y="3933720"/>
              <a:ext cx="298440" cy="10260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26280" y="4334400"/>
              <a:ext cx="298440" cy="10260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ve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ela je koncipována z hlediska vrcholného momentu dě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ezuje ji dekorativní živel a charakteristiky postav nejsou zobrazeny vývojov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rdina sem vstupuje jako hotový ži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43280" y="2538000"/>
            <a:ext cx="4265640" cy="1130040"/>
            <a:chOff x="4643280" y="2538000"/>
            <a:chExt cx="4265640" cy="1130040"/>
          </a:xfrm>
        </p:grpSpPr>
        <p:cxnSp>
          <p:nvCxnSpPr>
            <p:cNvPr id="183" name="_s14348"/>
            <p:cNvCxnSpPr>
              <a:stCxn id="184" idx="0"/>
              <a:endCxn id="185" idx="2"/>
            </p:cNvCxnSpPr>
            <p:nvPr/>
          </p:nvCxnSpPr>
          <p:spPr>
            <a:xfrm flipV="1" rot="16200000">
              <a:off x="7093800" y="1916640"/>
              <a:ext cx="197640" cy="214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14347"/>
            <p:cNvCxnSpPr>
              <a:stCxn id="187" idx="0"/>
              <a:endCxn id="185" idx="2"/>
            </p:cNvCxnSpPr>
            <p:nvPr/>
          </p:nvCxnSpPr>
          <p:spPr>
            <a:xfrm flipV="1" rot="16200000">
              <a:off x="6350400" y="2660760"/>
              <a:ext cx="197640" cy="655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4346"/>
            <p:cNvCxnSpPr>
              <a:stCxn id="189" idx="0"/>
              <a:endCxn id="185" idx="2"/>
            </p:cNvCxnSpPr>
            <p:nvPr/>
          </p:nvCxnSpPr>
          <p:spPr>
            <a:xfrm flipH="1" flipV="1" rot="5400000">
              <a:off x="5616000" y="2562480"/>
              <a:ext cx="178200" cy="832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14342"/>
            <p:cNvSpPr/>
            <p:nvPr/>
          </p:nvSpPr>
          <p:spPr>
            <a:xfrm>
              <a:off x="6084720" y="2538000"/>
              <a:ext cx="71280" cy="3520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52080"/>
                <a:gd name="textAreaBottom" fmla="*/ 348840 h 352080"/>
              </a:gdLst>
              <a:ahLst/>
              <a:rect l="textAreaLeft" t="textAreaTop" r="textAreaRight" b="textAreaBottom"/>
              <a:pathLst>
                <a:path w="21600" h="106263">
                  <a:moveTo>
                    <a:pt x="3600" y="0"/>
                  </a:moveTo>
                  <a:arcTo wR="3600" hR="3600" stAng="16200000" swAng="-5400000"/>
                  <a:lnTo>
                    <a:pt x="0" y="102663"/>
                  </a:lnTo>
                  <a:arcTo wR="3600" hR="3600" stAng="10800000" swAng="-5400000"/>
                  <a:lnTo>
                    <a:pt x="18000" y="1062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4343"/>
            <p:cNvSpPr/>
            <p:nvPr/>
          </p:nvSpPr>
          <p:spPr>
            <a:xfrm>
              <a:off x="4643280" y="3068280"/>
              <a:ext cx="1290240" cy="5803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rr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4344"/>
            <p:cNvSpPr/>
            <p:nvPr/>
          </p:nvSpPr>
          <p:spPr>
            <a:xfrm>
              <a:off x="6130800" y="3087360"/>
              <a:ext cx="1290240" cy="5806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ktivn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ve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4345"/>
            <p:cNvSpPr/>
            <p:nvPr/>
          </p:nvSpPr>
          <p:spPr>
            <a:xfrm>
              <a:off x="7618680" y="3087360"/>
              <a:ext cx="1290240" cy="5806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mantick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ve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hád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hádkový motiv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ďá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chal zmiz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snič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nouben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ítr                                                                  sest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čaroděj                                                            manžel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276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k unesl královu dc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76360" y="2708280"/>
            <a:ext cx="71928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71280" y="2708280"/>
            <a:ext cx="71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2637000"/>
            <a:ext cx="144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2637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4200" y="4848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y – 31 funkcí v pohád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vedená konstruk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apř . - hrdina přijde inkognito do jiného kr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falešný hrdina vystoupí se lživými výro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 hrdinovi je uložen nesnadný úk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úkol je splně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hrdina je pozná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falešný hrdina, reprezentant zla je odha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hrdinův vhled se promění (princův š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falešný hrdina je ztrestá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- hrdina e ožení a vstoupí na trů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y autorských povídek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 zorného úhlu pohledu autora ( hrdinův monolo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 patří třeba povídky , jež jsou psány formou dopisů – korespondence mezi jednotlivými postavami povíd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vídky sice vyprávěné autorem, ale tak autor splývá s hrdinou a ztotožňuje  se s ní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vídka v první osobě vždy skrývá úskalí, že autor musí vyprávět způsobem, který odpovídá úrovni, intelektu, slovníku a charakteru hrdi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77929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to je poslední přednáška -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še ostatní bude znovu probíráno v příštím semestru v rámci seminářů a při tvorbě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časopisu     TUH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víd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- je středně rozsáhlý epický útv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+   s jednoduchou fabul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+   se změnou výchozí situ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Edgar Alan Poe tvrdí, že novinová povídka se musí přečíst na jedno přečt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.Čapek – „povídka je drama v kostce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1" name=""/>
          <p:cNvCxnSpPr>
            <a:stCxn id="110" idx="1"/>
            <a:endCxn id="110" idx="1"/>
          </p:cNvCxnSpPr>
          <p:nvPr/>
        </p:nvCxnSpPr>
        <p:spPr>
          <a:xfrm>
            <a:off x="684000" y="41079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1332000" y="59500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6453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950080"/>
            <a:ext cx="2808360" cy="431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měty pro novinové povíd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ediální situ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zorování ze živ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znatky ze studia děj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lastní životní zkuše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chozím momentem pro povídku je změna postoje hrdiny   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un v děj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měna se musí odehrát v přímém ději nebo na něj poukázat, hrdina nemůže vstoupit do povídky jako někdo jiný bez vysvětl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okud čtenář musí charakter postavy vyvodit z textu nepřímým důkazem, musí se opírat o kauzální souvislosti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ovídka není jenom sdělení slovem, je to umělecký obraz, v němž se promítají organicky nashromážděné poznatky a pozorování</a:t>
            </a:r>
            <a:br>
              <a:rPr sz="2400"/>
            </a:br>
            <a:br>
              <a:rPr sz="16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ůležitá je charakter a čin hrdiny</a:t>
            </a: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38102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B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1844280"/>
            <a:ext cx="38145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Ž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342160" y="333360"/>
            <a:ext cx="43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vídka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va základní prv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Čas povíd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yprávěný čas ( retrospek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as vyprávění (konkrétní čas povídk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ovnáme-li sled vyprávění a čas událostí, o nichž se vypráví, jsou rozdíly v tempu, jakým se postupuje kupř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da mezi obojím časem se objevuje jen tam, kde vyprávění reprodukuje přímé řeči postav kde jsou události podány jak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é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un v ději novinové povíd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sovatelské umění nespočívá v umění psát, ale v umění naučit se nepodstatné škrt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2781360"/>
          <a:ext cx="82202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8220240" cy="3529080"/>
                  </a:xfrm>
                  <a:prstGeom prst="rect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trukce fiktivního svě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dná se o mikrostrukturu vyprávě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 motivy dynamick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 motivy statick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ké vážou dějový obsah vyprávě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K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dle nich prvky, které slouží k tomu, abychom si udělali představu o povahových rysech postav, o prostředí v němž žijí                   INDIC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ie povíd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znikla ve středově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ěšťané , stísnění v temných uličkách, v pevnostech, chrámech v dobách válek, morových epidemií apod. skládali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jedovaté anekdo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Anekdotické příběh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 Boccaccio -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ECAMERON)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22:39Z</dcterms:created>
  <dc:creator>Nora Dolanská</dc:creator>
  <dc:description/>
  <dc:language>en-US</dc:language>
  <cp:lastModifiedBy>Nora Dolanská</cp:lastModifiedBy>
  <dcterms:modified xsi:type="dcterms:W3CDTF">2002-04-27T19:27:09Z</dcterms:modified>
  <cp:revision>9</cp:revision>
  <dc:subject/>
  <dc:title>Novinová povídka</dc:title>
</cp:coreProperties>
</file>