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2AEE1-41C4-4E59-A0FE-7C3C2C6F9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882B4-4F81-48A1-87D6-755692CB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9DBDE-5F5E-4709-8157-BB0A4A68D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8ABA9-5DA3-414A-8821-CB56DBE0B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3E89A-15A2-44FB-8AB5-CD68701AE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39791-EAB7-476B-9B4F-5E5807015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CBDDA-36C5-4A6C-B5B2-551064F64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3429D-99F1-410C-B97B-7E2EC94BA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1D3D0-54A1-44A8-A55E-E8BAC24E6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9E6A8-0EFB-4452-A206-649B6FA8A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43E02-3653-40E4-BBDA-1A742BF8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4886-334D-4A27-A271-40B7A5F15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4C434-9765-47C1-B68A-41B900506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69246-D21F-40DE-9B49-4FE4F383C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6347B-E583-46F7-9C47-8577ADE82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E277B-B2BF-4BA9-B348-87DCB1288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BB67B-2B1A-47BA-819B-6CEF45E3A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69CA5-108C-4C62-B54F-D5F05584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C738-9C4D-4319-86A3-245F817C6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914C-4089-4DB4-BB86-4BC9494DB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63918-EB7B-421E-A817-71594E88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C115-1280-4021-917A-F3BF09ACE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E9D3-01D5-4D63-9099-FB3A80AF3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BEF04-5306-41D5-801A-96109E2F4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D314-0B9C-4F87-8105-3F1101FF08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3946-7AD6-4EDC-8D86-C5D4C3085A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5000"/>
            <a:ext cx="7772400" cy="194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Črta, causeri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47636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kulta sociálních věd</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erzity Karlov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Nora Dolanská</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333399"/>
                </a:solidFill>
                <a:latin typeface="Tahoma"/>
              </a:rPr>
              <a:t>Ludvík Aškenazy  </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Literární kritici hledali v Aškenazyho literárním stylu</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srovnání s literárním stylem Karla Čapka (Karla Čapka </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mám moc rád, rád ho čtu. Psát jako on ale nemohu, </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vidím svět jinak a už proto také píšu jinak. Přál bych si</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ovšem umět tolik jako Čapek, ale jaksi neumím.) nebo v poetice Wiliama Saroyana. Aškenazyho Dětské etudy to je metafora dialogu dvou světů dospělých a dětí. Rozhovor s človíčkem, to byl v padesátách letech útěk do království fantazie, lehkosti a humoru - poezie v próze, která nepotřebovala dlouhá souvětí - Líbezný a romantický je svět fantazie, dětství i dospělosti v povídkách a pohádkách Ludvíka Aškenazyho. Dramatický a krutě pravdivý, a přesto i tady poetický, je Aškenazyho svět v povídkách z války. Náměty jsou to na román a zpracování na dvě knižní stránky a přece nemáte pocit, že by se Aškenazymu v jeho vyprávění něčeho nedostávalo.</a:t>
            </a:r>
            <a:endParaRPr b="0" lang="en-US" sz="1800" spc="-1" strike="noStrike">
              <a:solidFill>
                <a:srgbClr val="000000"/>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 </a:t>
            </a:r>
            <a:r>
              <a:rPr b="0" lang="cs-CZ" sz="1800" spc="-1" strike="noStrike">
                <a:solidFill>
                  <a:srgbClr val="000000"/>
                </a:solidFill>
                <a:latin typeface="Tahoma"/>
              </a:rPr>
              <a:t>Jsou to miniatury, které mají svým obsahem, svým osobitým pohledem na svět výjimečný rozměr </a:t>
            </a:r>
            <a:endParaRPr b="0" lang="en-US" sz="1800" spc="-1" strike="noStrike">
              <a:solidFill>
                <a:srgbClr val="000000"/>
              </a:solidFill>
              <a:latin typeface="Tahoma"/>
            </a:endParaRPr>
          </a:p>
        </p:txBody>
      </p:sp>
      <p:graphicFrame>
        <p:nvGraphicFramePr>
          <p:cNvPr id="117" name=""/>
          <p:cNvGraphicFramePr/>
          <p:nvPr/>
        </p:nvGraphicFramePr>
        <p:xfrm>
          <a:off x="0" y="0"/>
          <a:ext cx="1890720" cy="2195640"/>
        </p:xfrm>
        <a:graphic>
          <a:graphicData uri="http://schemas.openxmlformats.org/drawingml/2006/table">
            <a:tbl>
              <a:tblPr/>
              <a:tblGrid>
                <a:gridCol w="1674720"/>
                <a:gridCol w="216000"/>
              </a:tblGrid>
              <a:tr h="247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20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8" name="" descr="Ludvík Aškenazy-civilní snímek"/>
          <p:cNvPicPr/>
          <p:nvPr/>
        </p:nvPicPr>
        <p:blipFill>
          <a:blip r:embed="rId1"/>
          <a:stretch/>
        </p:blipFill>
        <p:spPr>
          <a:xfrm>
            <a:off x="7236000" y="333360"/>
            <a:ext cx="140940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roslav Horníče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Vypravěčství je umění prastaré a starodávné.Vyprávělo se již v jeskyních, vyprávěl Homér, vždycky se vyprávělo a ještě v minulém století tu byly přástky nebo draní peří, kdy v tichu všech a uprostřed jejich pozornosti, byl vždycky jeden, kdo sděloval své příběhy.Střídali se, vypravěč e stával posluchačem a naopak, bylo to jedno velké umění… Dnes lidé spěchají a do vyprávění proniká nepěkný filmový termín – hele, střihni to – a vypravěč si považuje za pochybnou čest sdělit příběh nebo anekdotu co nejmenším počtem slov…“</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indřiška Smetanová</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Ustláno na růžích a  pod nebesy</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Koncert pod platanem</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Sedmilháři</a:t>
            </a:r>
            <a:endParaRPr b="0" lang="en-US" sz="32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r>
              <a:rPr b="0" lang="cs-CZ" sz="1800" spc="-1" strike="noStrike">
                <a:solidFill>
                  <a:srgbClr val="000000"/>
                </a:solidFill>
                <a:latin typeface="Tahoma"/>
              </a:rPr>
              <a:t>Spisovatel který se bojí přivlastnit si osudy kteréhokoliv ze svých bližních jenom proto, že má strach z nepříjemností, je špatný spisovatel a měl by si raději hledat jiné povolání stát se třeba pošmistrem. Mám právo to tvrdit po vlastních zkušenostech.V Pohádce o kněžně se zlacenou nábytkovou soupravou jsem si přisvojila pana Ervina Schonborna, tedy muže, kterého znala polovina Prahy. A protože jsem vycházela z opatrného zijštění, že v některých časech je strategicky účinné maskovat děla březovmi větvičkami a v jiných časech že je to dobré dělat i s určitými myšlenkami, rozšířila jsem tuto zásadu i na lidi a přizdobila postavu pana Schonborna pomyslnými zelenými ratolestmi i matoucími slovy v domnění, že ho mohu vydávat za hraběte Hutzfelda a nikdo nic nepozná…“</a:t>
            </a: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a Pavel  (1930 – 1973)</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lná bedna šampaňského</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ohár od pánaboha</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Syn celerového krále</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Pohádka o Raškovi</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Dukla mezi drakodrapy</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Smrt krásných srnců</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Jak jsem potkal ryby</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Smrt krásných srnců</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Veliký vodní tulák</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Fialový poustevník</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ahoma"/>
              </a:rPr>
              <a:t>Z nepopsaného bloku</a:t>
            </a:r>
            <a:endParaRPr b="0" lang="en-US" sz="24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a Pavel</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vlova tvůrčí metoda v sobě spojuje přednosti reportéra a prozaika. Je založena na spojení obrazných beletristických postupů s publicistickými funkcemi. Do jeho příběhů, které jsou postaveny na faktu a jejichž reálie jsou ověřitelné, proniká nejživější skutečnost spojená s osobním hodnocením, které očekáváme od dobrého reportéra.</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pětí, které vzniká mezi obraznými postupy na jedné straně a publicistickými funkcemi na straně druhé, dává vzniknout nové kvalitě. Mnozí kritikové připomínají, že  Pavlovy práce jsou nesnadno žánrově zařaditeln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Tahoma"/>
              </a:rPr>
              <a:t>Jaroslav Vokřál o něm napsal:</a:t>
            </a:r>
            <a:br>
              <a:rPr sz="2400"/>
            </a:br>
            <a:br>
              <a:rPr sz="2400"/>
            </a:br>
            <a:r>
              <a:rPr b="0" lang="cs-CZ" sz="2400" spc="-1" strike="noStrike">
                <a:solidFill>
                  <a:srgbClr val="333399"/>
                </a:solidFill>
                <a:latin typeface="Tahoma"/>
              </a:rPr>
              <a:t>„ Autor se musel sám vyrovnávat s mnoha zklamáními, týkajícími se elementárního lidského bytí, proti nimž je zklamání ze sportu opravdu jen hrou. Vyrovnal se s nimi, ale nikdy nesmířil. Musel vzít na vědomí, že se svět jeho psaním příliš nezmění. Vzal to na vědomí, ale sám zůstal původní, svůj, čistý, rozhodnut alespoň vypovědět,pravdu. Nad jeho prózami se rozprostírá chápavý úsměv s koutky staženými, veselý i smutný zároveň..“</a:t>
            </a: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useri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Nenucené povídání, tlachání</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Lehké, jemné vyprávění ze života s nadhledem a úsměvem</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1" lang="cs-CZ" sz="2800" spc="-1" strike="noStrike">
                <a:solidFill>
                  <a:srgbClr val="000000"/>
                </a:solidFill>
                <a:latin typeface="Tahoma"/>
              </a:rPr>
              <a:t>causer = vypravěč</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Fejetonový styl</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Na rozdíl od črty pointuje</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Na rozdíl od fejetonu fabuluje</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 vypravěčská záliba</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 bezprostřední autorský kontakt se čtenářem</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 slovensky besednica</a:t>
            </a:r>
            <a:endParaRPr b="0" lang="en-US" sz="2800" spc="-1" strike="noStrike">
              <a:solidFill>
                <a:srgbClr val="000000"/>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iří Marek</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V žánru vyprávěnek</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Psí hvězda Siriu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Radostná setkání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Desatero skořicových květů</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 vypravěč Literárních novi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Hříšní lidé města pražského (povídk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userie</a:t>
            </a:r>
            <a:br>
              <a:rPr sz="4000"/>
            </a:br>
            <a:r>
              <a:rPr b="0" lang="en-US" sz="4000" spc="-1" strike="noStrike">
                <a:solidFill>
                  <a:srgbClr val="333399"/>
                </a:solidFill>
                <a:latin typeface="Tahoma"/>
              </a:rPr>
              <a:t>František Nepil</a:t>
            </a:r>
            <a:endParaRPr b="0" lang="en-US" sz="40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 úvodu ke knize </a:t>
            </a:r>
            <a:r>
              <a:rPr b="1" lang="en-US" sz="2800" spc="-1" strike="noStrike">
                <a:solidFill>
                  <a:srgbClr val="000000"/>
                </a:solidFill>
                <a:latin typeface="Tahoma"/>
              </a:rPr>
              <a:t>Dobré a ještě lepší jitro</a:t>
            </a:r>
            <a:r>
              <a:rPr b="0" lang="en-US" sz="2800" spc="-1" strike="noStrike">
                <a:solidFill>
                  <a:srgbClr val="000000"/>
                </a:solidFill>
                <a:latin typeface="Tahoma"/>
              </a:rPr>
              <a:t> říká Miroslav Horníček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rantišek Nepil je rozený vypravěč, vypravěč ne snad povoláním, ale posláním.Lidé mu naslouchají, protože ví, co říká a to co říká, ví. Je klidný a moudrý, vidí věci a dovede je pojmenovat.Lidé ho mají rádi, cítím to z těch jejich dotazů.Je jedním z těch, který dovede  své posluchače zastavit a ztiši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ekdota</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jmenší útvar publicistický, jehož základem musí být grad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visí s literární a publicistickou tvorbou , i když se to nezdá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stori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V každé národní oblasti vznikala jinou cestou, odvislá od nestejnorodého pohybu žurnalistiky a krásné literatury</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Rusky    očerk</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Německy   skizze</a:t>
            </a:r>
            <a:endParaRPr b="0" lang="en-US" sz="3200" spc="-1" strike="noStrike">
              <a:solidFill>
                <a:srgbClr val="000000"/>
              </a:solidFill>
              <a:latin typeface="Tahoma"/>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Anglicky     short story</a:t>
            </a:r>
            <a:endParaRPr b="0" lang="en-US" sz="3200" spc="-1" strike="noStrike">
              <a:solidFill>
                <a:srgbClr val="000000"/>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Vydávána většinou v knižních vydáních či v kulturních přílohách časopisů a listů </a:t>
            </a:r>
            <a:endParaRPr b="0" lang="en-US" sz="3200" spc="-1" strike="noStrike">
              <a:solidFill>
                <a:srgbClr val="000000"/>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orismy</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Mít takt znamená vědět, kam a můžeme dojít, než zajdeme moc daleko.</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Jean Cocteau</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Mám rád práci, dokáži se na ni celé hodiny dívat. Pouhá myšlenka, že bych se jí zbavil, mi láme srdce.</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Jerome K.Jero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říště na tém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kritik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ecenz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odborná stud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38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33399"/>
                </a:solidFill>
                <a:latin typeface="Tahoma"/>
              </a:rPr>
              <a:t>Vzniká  jako faktografický nestylizovaný obraz skutečnosti</a:t>
            </a:r>
            <a:br>
              <a:rPr sz="4000"/>
            </a:br>
            <a:r>
              <a:rPr b="0" lang="en-US" sz="4000" spc="-1" strike="noStrike">
                <a:solidFill>
                  <a:srgbClr val="333399"/>
                </a:solidFill>
                <a:latin typeface="Tahoma"/>
              </a:rPr>
              <a:t>zpočátku jako</a:t>
            </a:r>
            <a:br>
              <a:rPr sz="4000"/>
            </a:br>
            <a:r>
              <a:rPr b="0" lang="en-US" sz="4000" spc="-1" strike="noStrike">
                <a:solidFill>
                  <a:srgbClr val="333399"/>
                </a:solidFill>
                <a:latin typeface="Tahoma"/>
              </a:rPr>
              <a:t>forma deníků, vzpomínek, skic, výpovědí a záznamů z cest</a:t>
            </a:r>
            <a:br>
              <a:rPr sz="4000"/>
            </a:br>
            <a:r>
              <a:rPr b="0" lang="en-US" sz="4000" spc="-1" strike="noStrike">
                <a:solidFill>
                  <a:srgbClr val="333399"/>
                </a:solidFill>
                <a:latin typeface="Tahoma"/>
              </a:rPr>
              <a:t>- autor se stává přímým aktérem</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nohotvárnost vedla k formální klasifikaci</a:t>
            </a:r>
            <a:endParaRPr b="0" lang="en-US" sz="40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trétn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řírodn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zpomínkov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stopisn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etick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álečn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ropští autoři</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Heinrich Heine</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J.W.Goethe</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Puškin, Turgeněv, Babel</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Balzak, Hugo</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Charles Dickens –boz- (Bozovy črty)</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Mounthy magazine</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Podsvětí Londýna, postavičky a postře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110960"/>
            <a:ext cx="8229600" cy="574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cs-CZ" sz="3200" spc="-1" strike="noStrike">
                <a:solidFill>
                  <a:srgbClr val="333399"/>
                </a:solidFill>
                <a:latin typeface="Tahoma"/>
              </a:rPr>
              <a:t>             </a:t>
            </a:r>
            <a:r>
              <a:rPr b="0" lang="cs-CZ" sz="3200" spc="-1" strike="noStrike">
                <a:solidFill>
                  <a:srgbClr val="333399"/>
                </a:solidFill>
                <a:latin typeface="Tahoma"/>
              </a:rPr>
              <a:t>CHARLES DICKENS</a:t>
            </a:r>
            <a:br>
              <a:rPr sz="3200"/>
            </a:br>
            <a:r>
              <a:rPr b="0" lang="cs-CZ" sz="3200" spc="-1" strike="noStrike">
                <a:solidFill>
                  <a:srgbClr val="333399"/>
                </a:solidFill>
                <a:latin typeface="Tahoma"/>
              </a:rPr>
              <a:t>Parlamentní zpravodaj v londýnské sněmovně –</a:t>
            </a:r>
            <a:br>
              <a:rPr sz="3200"/>
            </a:br>
            <a:r>
              <a:rPr b="0" lang="cs-CZ" sz="3200" spc="-1" strike="noStrike">
                <a:solidFill>
                  <a:srgbClr val="333399"/>
                </a:solidFill>
                <a:latin typeface="Tahoma"/>
              </a:rPr>
              <a:t>Mornick Chronicle pravidelně uveřejňoval bozovy črty, které pak souborně byly publikovány  spolu s první části Kroniky Pickwickova klubu</a:t>
            </a:r>
            <a:br>
              <a:rPr sz="3200"/>
            </a:br>
            <a:r>
              <a:rPr b="0" lang="cs-CZ" sz="3200" spc="-1" strike="noStrike">
                <a:solidFill>
                  <a:srgbClr val="333399"/>
                </a:solidFill>
                <a:latin typeface="Tahoma"/>
              </a:rPr>
              <a:t>známé jsou zejména práce</a:t>
            </a:r>
            <a:br>
              <a:rPr sz="3200"/>
            </a:br>
            <a:r>
              <a:rPr b="0" lang="cs-CZ" sz="3200" spc="-1" strike="noStrike">
                <a:solidFill>
                  <a:srgbClr val="333399"/>
                </a:solidFill>
                <a:latin typeface="Tahoma"/>
              </a:rPr>
              <a:t>Ulice v noci a Ulice ráno</a:t>
            </a:r>
            <a:br>
              <a:rPr sz="3200"/>
            </a:br>
            <a:r>
              <a:rPr b="0" lang="cs-CZ" sz="3200" spc="-1" strike="noStrike">
                <a:solidFill>
                  <a:srgbClr val="333399"/>
                </a:solidFill>
                <a:latin typeface="Tahoma"/>
              </a:rPr>
              <a:t>podklady pro Starožitníkův krám a další</a:t>
            </a:r>
            <a:br>
              <a:rPr sz="3200"/>
            </a:b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lastní časopis Celý rok</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žádná chvíle z těch čtyřiadvaceti hodin dne a noci mi nepřipadá tak vznešená jako časné ráno.V létě vždy brzy vstanu a uchýlím se do své pracovny, abych stihnul ještě před snídaní vykonat nějakou práci, a tu jsem vždy hluboce dojat klidem a osamělostí kolem sebe.Ale je tu i něco víc – pocit, e jsem obklopen známými osobami, jež všechny spí - vědomí, že ti všichni, kteří jsou mi nejdražší a kterým jsem nejdražší já, jsou v naprostém nevědění o tom, co dělám a spočívají v nehybnosti – to vše jako by předznamenávalo ten tajemný stav, ke kterému všichni směřujeme, zastavený život, zavřená kniha a opuštěná práce – to všechno jsou odlesky Smrti. Pokojnost této hodiny představuje pokojnost smrti….“  </a:t>
            </a:r>
            <a:endParaRPr b="0" lang="en-US" sz="2400" spc="-1" strike="noStrike">
              <a:solidFill>
                <a:srgbClr val="000000"/>
              </a:solidFill>
              <a:latin typeface="Tahom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1859)</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znik  české črty</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Ve 20. letech 19.století</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náznaky již u Krameria</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Božena Němcová – Národopisné obrázky</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K.H.Borovský – Obrazy z Rus</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Karolina Světlá -  Kresby z Podještědí apod.</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ahoma"/>
              </a:rPr>
              <a:t>  </a:t>
            </a:r>
            <a:r>
              <a:rPr b="0" lang="cs-CZ" sz="3200" spc="-1" strike="noStrike">
                <a:solidFill>
                  <a:srgbClr val="000000"/>
                </a:solidFill>
                <a:latin typeface="Tahoma"/>
              </a:rPr>
              <a:t>Ignát Herman – Drobné figurk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století</a:t>
            </a:r>
            <a:endParaRPr b="0" lang="en-US" sz="4400" spc="-1" strike="noStrike">
              <a:solidFill>
                <a:srgbClr val="333399"/>
              </a:solidFill>
              <a:latin typeface="Tahoma"/>
            </a:endParaRPr>
          </a:p>
        </p:txBody>
      </p:sp>
      <p:sp>
        <p:nvSpPr>
          <p:cNvPr id="114" name="PlaceHolder 2"/>
          <p:cNvSpPr>
            <a:spLocks noGrp="1"/>
          </p:cNvSpPr>
          <p:nvPr>
            <p:ph/>
          </p:nvPr>
        </p:nvSpPr>
        <p:spPr>
          <a:xfrm>
            <a:off x="1182600" y="1700280"/>
            <a:ext cx="7772400" cy="443232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S.K.Neuman – Kniha lesů, vod a strání</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Fráňa šrámek – Žasnoucí voják – povídky a črty</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Autoři Lidových novin</a:t>
            </a:r>
            <a:endParaRPr b="0" lang="en-US" sz="2800" spc="-1" strike="noStrike">
              <a:solidFill>
                <a:srgbClr val="000000"/>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F.Langer, K.Poláček, F.Valenta, M.Fantová, K.Čapek, K. K.Biebl</a:t>
            </a:r>
            <a:endParaRPr b="0" lang="en-US" sz="2800" spc="-1" strike="noStrike">
              <a:solidFill>
                <a:srgbClr val="000000"/>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Poválečná generace</a:t>
            </a:r>
            <a:endParaRPr b="0" lang="en-US" sz="2800" spc="-1" strike="noStrike">
              <a:solidFill>
                <a:srgbClr val="000000"/>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N.Frýd, F.Kožík, O.Pavel, J.Seifert, J.Smetanová, J.Marek, </a:t>
            </a:r>
            <a:endParaRPr b="0" lang="en-US" sz="2800" spc="-1" strike="noStrike">
              <a:solidFill>
                <a:srgbClr val="000000"/>
              </a:solidFill>
              <a:latin typeface="Tahoma"/>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ahoma"/>
              </a:rPr>
              <a:t>  </a:t>
            </a:r>
            <a:r>
              <a:rPr b="0" lang="cs-CZ" sz="2800" spc="-1" strike="noStrike">
                <a:solidFill>
                  <a:srgbClr val="000000"/>
                </a:solidFill>
                <a:latin typeface="Tahoma"/>
              </a:rPr>
              <a:t>K.Sidon, P.Šabach, H.Pawlovská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9T20:21:40Z</dcterms:created>
  <dc:creator>Nora Dolanská</dc:creator>
  <dc:description/>
  <dc:language>en-US</dc:language>
  <cp:lastModifiedBy>Nora Dolanská</cp:lastModifiedBy>
  <dcterms:modified xsi:type="dcterms:W3CDTF">2002-04-13T14:39:25Z</dcterms:modified>
  <cp:revision>11</cp:revision>
  <dc:subject/>
  <dc:title>Črta,causerie</dc:title>
</cp:coreProperties>
</file>