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A18-52C5-467D-8B75-CD919F10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BC2-E718-4080-9625-E6CF4AC0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78C-C79E-4D95-9A7F-4EA61A72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F50-ECDB-4C82-B45E-21B1EE48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60D6-B2B3-499C-BDE7-8596C5FB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6A4-C247-45D5-86EA-2D34C32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911-7746-49DB-B85B-812FD5C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C793-AFAB-477A-8547-C3D8725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3187-644F-475A-806E-FCFD30A8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BF29-32D3-4A53-B8E8-0BA2E08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98D-3209-4A7F-AFAB-7C41771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FF5-2A61-4360-8DD9-7CE8368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05E9-1071-46F8-881F-D11FFA4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EF7E-1377-4BAA-99F6-B550628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554F-E0CB-4C5F-9C33-E801B6A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DF2D-D72C-4952-8E02-BCAAEA6A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0AFD-8928-4E01-B241-3518AF8F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8A5-FE9F-4143-A3D2-9B5B2B3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44F-728B-4D75-99D3-C9EF661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BB7-C9F3-4FBC-8093-0EF9480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FC6-4AD1-40EE-B4A6-DA52DF82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3F1-B32F-41FA-BDF1-BB3FBA8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BFA-3F2C-4239-A4AA-8AC5E14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59D-AEBA-4FDA-A1CC-9EACD0B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4BF-4FD4-4111-8079-36FE2215A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898-5BEC-48D2-B99C-547534594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dnička  jako žán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ávní problémy publicisti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náška Dr.Nora Dolans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kulta sociálních vě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zity Karlo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umpce nevin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ležitý právní aspekt při psaní soudnič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žná záměna jména s osobou, která s případem nemá nic společného a bude mít společenskou újmu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 často iniciály nebo změna jmé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í soudnič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 válce se publicistika změni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ešní podoba v krimi povíd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dním zpravodajs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lvární reportáž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ísňová podoba JUDr. Ivo Jahel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tický kodex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ezinárodní federace novinářů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červen 1986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vními povinnostmi novinářů jsou úcta k pravdě a respekt k prá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inář brání zásady uveřejňování zpráv a právo na odpovědný komentář a krit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inář má informovat jen v souladu s fakty, jejichž původ je mu znám. Nemá zatajovat ani falšovat dokum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získávání zpráv, fotografií a dokumentů použije jen čestné met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usí si být vědom diskriminace, která vzniknout zveřejněním  informace v médi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rubé porušení profese podle Etického kodexu MF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giátorstv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lovolné dezinform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mluvy a hanob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podložená obvině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ijímání úplatků a to v jakékoliv formě za účelem zatajení či zveřejnění inform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opad 1998 – Etická komise Syndiká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stina práv a svobod čl.17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součást Ústavy Č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e , předávané veřejnosti musí být včasné, pravdivé, úplné a nezkresle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inář mus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at jen ty informace, jejichž původ je zn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ektovat prav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zlišovat fakta od osobních názor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mítat zásahy státních orgán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hlediska profesionality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e osobní zodpovědnost za své zveřejněné materiál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í vyloučit činnosti, které vedly ke střetu zájmů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ijímat výhody a hodnotné dary, související s jeho odbornou činností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zneužívat povolání k činnosti reklamního pracovník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odepisovat svým jménem obchodní ani finanční reklam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zneužívá výsad, plynoucí z povolání novinář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asická soudnič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chází z dě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ehrává se v soudní sí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ždy přináší rozsu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dní publicistika nezachycuje jen aktuální skutečnosti, zabývá se i mezilidskými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á povinnost mravně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vychovávat veřejn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asická stav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vedení do děje – expoz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ímá řeč v soudní síni – dialog, protokol, vyprávění ap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is viní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vození druhu přípa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ěkdy podobenství s jinými příp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sudek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často humor, ironi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ární stav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íběh člověk či udál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ment odsouz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ýpověď u sou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sudek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iterární stylist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zachycení atmosfé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často ly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znik soudnič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rvé se setkáváme ze záznamem zločinu ve Slovanu u K.H.Borovského v rubrice „Zprávy domácí“ 18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témže roce i Pražský pos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tím stále jen jako záznam přelíč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vní pravidelní autoř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rantišek Šimeč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gnát Herrma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ub Arbes   ( 1840 – 1914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pisné a přísně laděné, výrazná snaha o výchovné působ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dvard Val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roslav Haš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duard B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DOLF TĚSNOHLÍDEK  (1888- 1928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ševně zničený po smrti manželky hledal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 roku 1908 vstoupil do brněnské redakce 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 pro něj osobitou formou, vycházející z faktů, má intelektuální pova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ědomitost při práci s fak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ní lhostejný k osudu obviněné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každé soudničky vkládal i osobní prožitek, nutí čtenáře vcítit se do případ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FRANTIŠEK   NĚMEC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( 1902 - 196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dní zpravodaj Tribuny, část období 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20 let redaktorem Melantrichu ( v časopise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ho soudničky veselé, povídkové s řadou překvap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ntánní projev, lidový vypravě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chává protagonisty příběhů mluvit jejich vlastní řeč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por k falešné morálce, satirický ta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roce 1963 – knižní vydání „Soudničky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lasik soudnič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AREL POLÁČE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( 1892 – 1944 Osvětim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zít si zárodek faktu, nějaký charakteristický znak, který pak, když je dobře promyšlen, musí dát obraz života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chymista hum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počátku to zkoušel jako filmový krit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re své postavy od soudu psychologic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Často s ním i sympatizu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ětšina je psána anekdotickou form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juje proti maloměšťáctv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román „Hlavní přelíčení“ je vlastně kriminalistická reportá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4:53:34Z</dcterms:created>
  <dc:creator>Nora Dolanská</dc:creator>
  <dc:description/>
  <dc:language>en-US</dc:language>
  <cp:lastModifiedBy>Nora Dolanská</cp:lastModifiedBy>
  <dcterms:modified xsi:type="dcterms:W3CDTF">2002-05-08T16:16:23Z</dcterms:modified>
  <cp:revision>8</cp:revision>
  <dc:subject/>
  <dc:title>Soudnička  jako žánr právní problémy publicistiky</dc:title>
</cp:coreProperties>
</file>