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7F3-2971-4771-9537-13C71ED1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87C-9779-4492-807F-DFA2A2BE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DEA-D633-4E51-A382-F88B8B88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2B5-BFD7-4238-A330-C4D6D404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D770-1A9A-44F4-8EFA-C48E3D8A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4B74-3CAE-4637-8FAB-5E875460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083-2B1B-440A-96C7-004C2DB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A0BC-B965-4647-9436-B04A98A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9654-DFFF-41A1-AFFD-D870F06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FC21-750E-4BEF-9FFD-4C2CAEF3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2E5-4261-4FEF-80D3-3B37158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AD0-8464-4B42-962F-9FDC9793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977-21A1-4AC9-9255-96302C8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0629-D825-416C-8473-789C377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63A-E210-454A-901D-9329D561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EB8D-103D-4F2B-BFF9-6135267A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664D-5BE0-4848-AB70-FB6857A8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501-8B80-4C9F-9F39-54ABADD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0B0-A824-44A3-A9E1-6CAC3E8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B7D-D318-4105-8821-187F7174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603-5797-4E59-9F08-89105566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B40-EBC6-4E68-BF68-B61D28A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E44-48F4-4B4D-A841-49CC92C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76D-4211-4A48-A07D-616603A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7207-75DD-4DD3-9D4C-BF1BC1A5A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F4A4-A7E1-446C-9770-AF963E3DA5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Reportáž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feature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feature sto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kulta sociálních vě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zity Karlo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ční žurnalismus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ü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ter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Wallra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ěmecký žurnalista, jehož metody novinářské práce dostaly novou polohu na hranici legálního získávání informac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monstrace a odsouzení, pobyt ve vězení „ Náš fašismus vedle nás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jel do Portugalska pracovat v jednom zemědělském družstvu, politické zázem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halení jednoho spiknutí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acoval v redakci Bildu inkognito z tohoto pobytu reportážní kniha „ Otvírák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etody: převleky, ankety, inzeráty, politické afé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ční žurnalismus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Egon Ervín Kis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ažský rodák, píšící němec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už talentu a energie, který dal svůj talent s odvahou a tvrdošíjností do služeb velké emancipace lidstva „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enry Babu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885- 19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ekladatelka Jarmila Haasová- Nečasov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ažské obrázky      Pražské dobrodružstv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aři, popi, bolšev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ajná Čína      Vstup zakáz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sie od základů změně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řistání v Austrálii                        „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není nic senzačnějšíh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merický ráj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                                 na světě, než doba, v ní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bjevy v Mexiku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                           žijeme…“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ční žurnalismus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Ernest Hemingw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1.července 1899 – 2.července 196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nsas City Star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 6. největší noviny u 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ronto Star Weekly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 evropský dopisovatel z Paříže, Španělska a po Evropě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Toronto Daily 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Časopisy Look, Ken , Esquire, Cosmopolitan a další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1936 korespondent  North American Newspaper Alliance (NAN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Od 30. let prodával své reportáže a povídky jako volný nov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ční žurnalismus  </a:t>
            </a:r>
            <a:r>
              <a:rPr b="0" lang="cs-CZ" sz="4400" spc="-1" strike="noStrike" u="sng">
                <a:solidFill>
                  <a:srgbClr val="333399"/>
                </a:solidFill>
                <a:uFillTx/>
                <a:latin typeface="Tahoma"/>
              </a:rPr>
              <a:t>Tom Wolfe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(Thomas Kennerly Wolf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931 Washing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iny :Washington Post, New York Herald Trib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opisy: New Yorker, Esqu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kladatel nového žurnalismu, k němu vydal v roce 1973 manif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mány na pokračování v novinách, reportáže ( viz kniha Kyselinovej test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hňostroj marnosti ( pro knižní vydání zcela předělal) původně psal pro časopis Rolling Stone, nejvýznamnější román 80. let v 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ž na vrcholu – sága americké společ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ullitzerova 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Akční žurnalismus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Richard Halliburt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9.1.1900 Tennessee „Daring Dick“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(smělý Dic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Fascinace romantikou, bohatá jižanská rod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Vášnivý čtenář, neuvěřitelně pracovitý, leč dobrodru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Bakalář , další vzdělání nahrazují cesty po světě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Horolezecké  cesty, Indie, Čína, Japonsko, první kniha cestopisných reportáž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„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Královskou cestou za romantikou“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Živí se psaním dalších příběhů z cest ( Paanamský průplav, Studna smrti apod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neobyčejné příběhy se zvraty, gradací, humoru a nečekaných situac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„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bezpečí je nezbytnou složkou dobrodružství a když se dlouho nesetkám s žádnou opravdu vážnou překážkou, udělám všechno, abych si nějakou vyhledal…“ vlastní motto    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putování po stopách Odysea, Hannibal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cs-CZ" sz="1400" spc="-1" strike="noStrike">
                <a:solidFill>
                  <a:srgbClr val="000000"/>
                </a:solidFill>
                <a:latin typeface="Tahoma"/>
              </a:rPr>
              <a:t>končí tragicky  24.3. 1939  - slova z vysílač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„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Bouře od jihu. Déšť. Silné poryvy větru. Zábradlí na závětrné straně pod vodou. Lůžka mokrá. Stěží udržujeme kurs. Máme se báječně. Přál bych vám, abyste byli na mém místě…“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éř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vropští současní autoři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eter Arnett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– golfská válka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váleční autoři: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ta Pavel, Jiří Marek, Karel Michal, Karel Lacina, Ivan Klíma,  Miroslav Stingl a dalš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eští současní autoři např.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osef Klíma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adek Joh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omáš Feřt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Volf, Petra Procházková, Jaroslav Štět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ématické okru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lečenská reportá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álečná reportá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stopisná reportá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istický dok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ea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namená značku, charakter (meto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rcholné číslo, dominantní text v čís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EATURE jako slov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rtrétov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črtáv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obat 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eature – vše kromě zpravodajstv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značení rekonsktrukce skutečné události, kdy se reportáž blíží fik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ea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401920" y="2347920"/>
            <a:ext cx="1371600" cy="457200"/>
            <a:chOff x="2401920" y="2347920"/>
            <a:chExt cx="1371600" cy="457200"/>
          </a:xfrm>
        </p:grpSpPr>
        <p:sp>
          <p:nvSpPr>
            <p:cNvPr id="143" name="_s25606"/>
            <p:cNvSpPr/>
            <p:nvPr/>
          </p:nvSpPr>
          <p:spPr>
            <a:xfrm>
              <a:off x="2401920" y="234792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487920" y="2347560"/>
            <a:ext cx="1123920" cy="456840"/>
            <a:chOff x="6487920" y="2347560"/>
            <a:chExt cx="1123920" cy="456840"/>
          </a:xfrm>
        </p:grpSpPr>
        <p:sp>
          <p:nvSpPr>
            <p:cNvPr id="145" name="_s25636"/>
            <p:cNvSpPr/>
            <p:nvPr/>
          </p:nvSpPr>
          <p:spPr>
            <a:xfrm>
              <a:off x="6487920" y="2347560"/>
              <a:ext cx="1123920" cy="456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žán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incip nejvýznamnějšího    Výraz pro práci 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extu v čísle                       tex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nvestiga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žurnalism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eature 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árně pojatý princip reportáže a novinové povídky  s akcentem na aktuálnost a pravdivost příbě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uje s dokumentem i beletrií zárove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dává atraktivnost formou gradace a propracovaného systému vztahů posta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reportáž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á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zrodu stála zvídavost, snaha vědět, získat původní a zajímavou inform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voj tisku, záplava údajů, technického vybavení nutila vydavatele podávat přesnější a důkladnější zázn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ář okamžiku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uálnost, přesnost záznam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říště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řednáška na té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ogové dru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rét a medail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včetně interview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02280" y="2347560"/>
            <a:ext cx="5332680" cy="915120"/>
            <a:chOff x="2402280" y="2347560"/>
            <a:chExt cx="5332680" cy="915120"/>
          </a:xfrm>
        </p:grpSpPr>
        <p:cxnSp>
          <p:nvCxnSpPr>
            <p:cNvPr id="105" name="_s8205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902920" y="1870560"/>
              <a:ext cx="197640" cy="186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8204"/>
            <p:cNvCxnSpPr>
              <a:stCxn id="109" idx="0"/>
              <a:endCxn id="107" idx="2"/>
            </p:cNvCxnSpPr>
            <p:nvPr/>
          </p:nvCxnSpPr>
          <p:spPr>
            <a:xfrm flipV="1">
              <a:off x="5068440" y="2705760"/>
              <a:ext cx="2160" cy="19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8203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035960" y="1870560"/>
              <a:ext cx="197640" cy="186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8199"/>
            <p:cNvSpPr/>
            <p:nvPr/>
          </p:nvSpPr>
          <p:spPr>
            <a:xfrm>
              <a:off x="4301640" y="2347560"/>
              <a:ext cx="1533600" cy="3589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O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8200"/>
            <p:cNvSpPr/>
            <p:nvPr/>
          </p:nvSpPr>
          <p:spPr>
            <a:xfrm>
              <a:off x="2402280" y="2903760"/>
              <a:ext cx="1597320" cy="3589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Arial"/>
                </a:rPr>
                <a:t>Action sto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8201"/>
            <p:cNvSpPr/>
            <p:nvPr/>
          </p:nvSpPr>
          <p:spPr>
            <a:xfrm>
              <a:off x="4269960" y="2903760"/>
              <a:ext cx="1597320" cy="3589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Arial"/>
                </a:rPr>
                <a:t>Fact sto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8202"/>
            <p:cNvSpPr/>
            <p:nvPr/>
          </p:nvSpPr>
          <p:spPr>
            <a:xfrm>
              <a:off x="6137640" y="2903760"/>
              <a:ext cx="1597320" cy="3589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500" spc="-1" strike="noStrike">
                  <a:solidFill>
                    <a:srgbClr val="000000"/>
                  </a:solidFill>
                  <a:latin typeface="Arial"/>
                </a:rPr>
                <a:t>Quote sto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4143240"/>
            <a:ext cx="7772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eature story – literárně pojatá investigativní reportáž s prvky fabulace, náznakem příběhu, doplněná dokumentačním materiá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Quote – od franc. Enqueter = prošetř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zniku reportáž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port – reportáž (zpráva) zpravoda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práva od dopisovatele, deník z c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vláštní zpravodaj krymské války pracující pro Times začal posílat nejen zprávy,ale přímá líčení válečných boj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lovina 19.století v Evrop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rancouzský novinář  Albert Londres popsal návštěvu pařížské věz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ždy v souvislosti s dramatickými událostmi světového význa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á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žaduje vlastní zážit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ntakt se zobrazovanou skutečnos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le německého žurnalisty Emila Devif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portáž je subjektivní pravdivá zpráva o zážitcích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zna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hledávání ( osob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jem (vlastní zaujetí)- viz cestopisná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á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nost tématu (sám si hled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ždé téma reportáže má vést k překlenutí distance a otevření barié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de o zprostředkování sociální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popis místa, kam by čtenář normálně nemoh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krétní kompozic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fabul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láž – montáž ( quote story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ramatick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trospektiv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portáž – interview ( fact story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pické vyprávění ( feature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á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povídá na stejné otázky jako při zprávě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st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oh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to týk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to st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věc udá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to st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 to stal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sledný efekt je však v naprosto jiné rovi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enzačnost jako atribut reportáže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ční žurnalismn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ichard Hallibur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rnest Heming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pton Sincl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.E.Kis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m Wol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ter Wallr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19:51Z</dcterms:created>
  <dc:creator>Nora Dolanská</dc:creator>
  <dc:description/>
  <dc:language>en-US</dc:language>
  <cp:lastModifiedBy>Nora Dolanská</cp:lastModifiedBy>
  <dcterms:modified xsi:type="dcterms:W3CDTF">2002-03-03T15:37:57Z</dcterms:modified>
  <cp:revision>6</cp:revision>
  <dc:subject/>
  <dc:title>Reportáž feature feature story</dc:title>
</cp:coreProperties>
</file>