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Nora Dolanská" initials="N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02-02-10T15:09:29.35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758-82C1-4A87-91AF-C3004D06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73D-3439-4E0B-B7D5-5A442FE8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3B3-D60B-4390-871B-C05FDEFC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727-B47C-4710-BC7C-1EA8D39A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78AE-D32B-4B53-A653-E9E25492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AB53-A073-4DC0-B8F0-B0E42033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0C79-6634-4E74-8267-752CA53A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8507-EF69-40A7-A2A1-23940A53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1EBC-0979-4FD6-A104-DD1AD860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1C7D-1D0B-459B-866E-35C04B12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8945-0BF3-49B6-962C-162B219D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692-2B26-4194-9034-93943409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70B4-4BC3-4A55-8C7B-A5963AD6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EC7A-FB00-44A9-9D7B-36957D2A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9E5B-AC8D-4492-A927-C0DB2C26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206F-BF5A-4491-A829-A0D51353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AF6B-0D2F-4EDF-8136-3A9C6CE4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073-D3D6-4E28-B481-4252D695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D8F-845E-4CB0-B761-65909ECF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F71-874C-4590-B2CA-8CDC9FD7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27D-E9FC-419E-8F7B-38426B64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54C-7FB1-48C2-A0B0-1FCC3FA3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784-7B5F-4951-AD75-4CF50F5C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478-FD75-472A-BFFE-8C15F811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D425-A785-4B45-8F4E-485234AA08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6B76-00FB-4D3A-BDBC-6E82A0EDD9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oupek, fejet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Žurnalistická tvorba 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Nora Dolansk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jeton - histori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ařížský Journal des Déb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Julien  de Geofrr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bbé , divadelní krit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tiskoval vtipné postřehy o kultuře a poli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 inzertní části nov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 nebyla cenzurována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feuille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5157720"/>
            <a:ext cx="417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558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Po dva roky pravidelně přispíval mezi inzeráty, když v roce 1801 zrušena příloha „Le feulle“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objevily se jeho texty přímo v listu pod onou tlustou čárou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na něj ve Francii navázali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Sainte Beuve,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Jules Janin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Victor Hugo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škola evropského fejeton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jeton historie Evrop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brovský zájem o tento žán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ěmecku Heinrich He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- zážitky z c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Ludwig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i="1" lang="cs-CZ" sz="2300" spc="-1" strike="noStrike">
                <a:solidFill>
                  <a:srgbClr val="000000"/>
                </a:solidFill>
                <a:latin typeface="Tahoma"/>
              </a:rPr>
              <a:t>Kniha je víno v sudě, list je víno v lahvi.Víno je tady i tam, kdo chce pít, musí sud nejprve narazit, kde chce číst, musí knihu nejprve rozdrobit do kapitol. Svět je příliš uspěchaný na psaní knih….svět je na cestách “ 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jeton historie Rusk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ejetony psaly známé osob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uškin, Dostojevskij,Turgeněv, Saltykov –Ščedrin, Čech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Časopis Sovremeni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pulární především v 60. – 80. letech 19.století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Feuilleton jako část lis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82240" y="2017800"/>
            <a:ext cx="381492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odnes existu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 evropské publicis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amostatná část lis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azvaná jak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„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feuilleton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Český fejeton histo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.K.Tyl  Květy česk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prvé pod názvem Feuilleton v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rodních novinách K.H.Borovsk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Hálek, Hejduk, Šmilovský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an NERU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agesbote aus Bohmen  186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Hlas, Čas , Rodinná kronika, Obrazy živo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Národní lis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Tahoma"/>
              </a:rPr>
              <a:t>Budu psát jadrně, totiž pravdivě, brát osoby ze života, život v nahotě jeho líčit,přímo řeknu, co myslím a co cítím….</a:t>
            </a:r>
            <a:br>
              <a:rPr sz="2400"/>
            </a:br>
            <a:r>
              <a:rPr b="0" i="1" lang="cs-CZ" sz="2400" spc="-1" strike="noStrike">
                <a:solidFill>
                  <a:srgbClr val="333399"/>
                </a:solidFill>
                <a:latin typeface="Tahoma"/>
              </a:rPr>
              <a:t>Je především zapotřebí, abychom se lidi znát naučili, život jejich a tak jejich potřebu, radosti  a žaly prozkoumali…</a:t>
            </a:r>
            <a:br>
              <a:rPr sz="2400"/>
            </a:br>
            <a:r>
              <a:rPr b="0" i="1" lang="cs-CZ" sz="2400" spc="-1" strike="noStrike">
                <a:solidFill>
                  <a:srgbClr val="333399"/>
                </a:solidFill>
                <a:latin typeface="Tahoma"/>
              </a:rPr>
              <a:t>Jan Neruda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333399"/>
                </a:solidFill>
                <a:latin typeface="Tahoma"/>
              </a:rPr>
              <a:t>Fritz Lemmermeyer v roce 1883 se poprvé pokouší definovat fejeton jako:</a:t>
            </a:r>
            <a:br>
              <a:rPr sz="2400"/>
            </a:br>
            <a:r>
              <a:rPr b="0" i="1" lang="cs-CZ" sz="2400" spc="-1" strike="noStrike">
                <a:solidFill>
                  <a:srgbClr val="333399"/>
                </a:solidFill>
                <a:latin typeface="Tahoma"/>
              </a:rPr>
              <a:t>„něco nevyslovitelného,mnohotvárného, rozmanitého, měnivého, něco bez určité barvy a tónu, co s nedá definovat, právě tak jako květina, mrak , žena…“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rudova práce s fak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obní prožit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hatá knihov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ém výpisk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známky na okraji kni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ém citát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31 let používal a kombinoval tyto postu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00 fejeton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éma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vadlo, práce he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dební osob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ždy kontext evropského myšl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ahraniční polit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utěšené poměry R-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zahraniční i domácí politika (parla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lší Nerudova tvorb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dlišné fejetony populárně vědeck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litické glo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ecenze  - především výtvarná obl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estopisné črty ( Francie, Německo, Egypt, Itálie 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ábavná causer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ovinové povídky (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hani i Malostranské povídky původně pro noviny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ruda - následovní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osef Svatopluk Mach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dravost a satiričnost, reagoval na bezprostředně aktuální témata, chtěl vystihnout myšlenku a atmosféru událost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duard B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šéfredaktor Lidových novin, otec Rozhlásku, rozšafný fejetonista o zákoutích Prahy, jazykově vytříbený satiri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ecně shodn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a podobné uplatnění v tis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dný přístup k myšl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jná autorská styliz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 obou podstatný autorský přís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arel Hor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vídkář a redaktor týdeníku Fron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aleidoskop obrázk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mil Vach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pické motivy, volnější kompoz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arel ČAP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 jeho podání fejeton dostal literární podob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Karel Čapek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ejetonist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třeba sdíl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ýsostně subjektiv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stupuje jako vypravěč, dovolává se souhlasu, čtenářovy pozor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ede dia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á osobitý smysl pro pozorování detal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ýstižně a vtipně pojmenovává věc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jetony Mileny Jesensk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de ženskou rubriku Národních list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íše o radosti ze života, o manželství, o rodině,vychází ze vzpomínek na rodi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velmi osobní,citov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Vždycky mi hlásání rovnoprávnosti a stejnosti připadalo jako podceňování ženy.Proto jsem nedovedla nikdy pochopit, proč se takové ženské práce tolik podceňují: prý není žena na světě jen proto, aby se starala o domácnost.Není domácnost a domov malým státem a žena v něm duší? Je velice povrchní tvrdit, že vedení domácnosti se sestává z vaření, praní prádla a generálních úklidů. Hlavní je duše ženy, výraz její osobnosti, její schopnosti tvořit v tomto světě několika stěn tichý měkký dar…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oválečný fejet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Tahoma"/>
              </a:rPr>
              <a:t>Jiří Mar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válečný fejetonista, autor cau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autor románu Můj strýc Odys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autor fejetonů o panu Severýnov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ahoma"/>
              </a:rPr>
              <a:t>Eduard Petišk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fejetony v Literárních novi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ahoma"/>
              </a:rPr>
              <a:t>Achille Greg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fejetony v Dikobra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Tahoma"/>
              </a:rPr>
              <a:t>Jindřiška Smetanov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fejetony ve Vlast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Tahoma"/>
              </a:rPr>
              <a:t>Pavel Koh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Tahoma"/>
              </a:rPr>
              <a:t>Ivan Bin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Tahoma"/>
              </a:rPr>
              <a:t>Věra Šťovíčkov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Tahoma"/>
              </a:rPr>
              <a:t>Karel Kyn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Tahoma"/>
              </a:rPr>
              <a:t>Alexandr Kli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Tahoma"/>
              </a:rPr>
              <a:t>Ivanka Devát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ejeton Rudolfa Křesťana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érázný jazy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isuje mikrosvět denního živo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vazuje na čapkovské trad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 ustálené schéma text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chází  většinou z jazykové var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konale pointu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říjemnou atmosféru popisovaného prostředí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lší fejetonisté současnos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leš Fuchs – divadelní fejeto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ichal Viewegh – společenská zymšl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Ludvík Vaculík  - úvahové politicky ladě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ejeto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mán - fejet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 minulém století se takto označoval novinový román na pkračo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ůvodní pravlastí opět Franc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Honoré de Balz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dal v roce 1836 v časopise Siecl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„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resse – román Stará pa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K tomuto listu se připojil i známý Journal des Debats a zde také začal vycházet na pokračování fejetonový romá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další tvůrci Dumas, Sandová, Muset a dalš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Tento typ textu musí mít specifická kritér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- samostatnost kapit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- uzavřenost příběh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- jednoduchá výstavb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íce v přednášce o novinové povíd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 dnešek d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íště  přednáška na té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eportá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e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eature s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ecně odlišn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iná funkce v tis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zsahově odliš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lišný postup v gradaci tex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matická nerovnováh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oup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ázvem připomíná rubri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de o specifický a jediný uměle vytvořený žá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znikl na objednávku šéfredaktora Lidových novin Arnošta Heinricha v roce 19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íchod bratří Čapků do L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773360"/>
            <a:ext cx="360360" cy="360360"/>
          </a:xfrm>
          <a:prstGeom prst="rightArrow">
            <a:avLst>
              <a:gd name="adj1" fmla="val 100000"/>
              <a:gd name="adj2" fmla="val 10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UTurnArrow"/>
          <p:cNvSpPr/>
          <p:nvPr/>
        </p:nvSpPr>
        <p:spPr>
          <a:xfrm>
            <a:off x="6084720" y="33336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37200" y="2501640"/>
            <a:ext cx="381312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Čapkovy sloup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ždou sobotu 18 let tvořil sloup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upek tvoří vtipný ,anekdotický  náp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outává zajímavost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 politický podtext ( x fejet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ratší rozs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t pro slovo, jemnost jazy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sný projev, pojmově jednoduchý,plný slovní inv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ce sloupk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arel Čape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e také jedna z nejdůležitějších vlastností sloupku, že musí skončit stůj co stůj, když se popíše jedna čtvrtka papíru. Kdybychom chtěli pokračovat na druhé čtvrtce, to už by nebyl sloupek ,ale fejeton…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arel Poláče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loupek má býti jízlivý a pokud poměry dovolují, vtipný.Jest tedy s důrazem odmítnouti ony náhražky sloupkové, v nichž výrobci se snaží ležatým písmem dodati svým výrobkům zdání dobré a zaručené jakosti…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loupky Miroslava Holuba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 principu rolničky:     (ironi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loupek budiž dobré mysli- rozvádět na 43 řádcích věci rmutné se nesluší – ťuk sem , ťuk tam a dál se písk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 sloupku přidat rozvernost hlubší ponory vedou  k několikasvazkovému hledání ztraceného ča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éma všední a minimální hmo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jednat o zkáze Titaniku nelze sloupk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 náročnějších tématech použít výslovně osobní zkuše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sát sloupek se dá pouze v dobrém rozpolož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(poezie se píše z hladu, román z neurózy a souborný referát vyžaduje žlučníkovou dietu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Tahoma"/>
              </a:rPr>
              <a:t>Nápady na téma sloupků</a:t>
            </a:r>
            <a:br>
              <a:rPr sz="2400"/>
            </a:br>
            <a:r>
              <a:rPr b="0" lang="cs-CZ" sz="2400" spc="-1" strike="noStrike">
                <a:solidFill>
                  <a:srgbClr val="333399"/>
                </a:solidFill>
                <a:latin typeface="Tahoma"/>
              </a:rPr>
              <a:t>u Arta Buchwalda</a:t>
            </a:r>
            <a:br>
              <a:rPr sz="2400"/>
            </a:br>
            <a:r>
              <a:rPr b="0" lang="cs-CZ" sz="2400" spc="-1" strike="noStrike">
                <a:solidFill>
                  <a:srgbClr val="333399"/>
                </a:solidFill>
                <a:latin typeface="Tahoma"/>
              </a:rPr>
              <a:t>„Copak jsem vám někdy lhal?“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rt Buchwa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větoznámý americký novinář, spisovat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loupkař v International Herald Tribune v Paříži vtipný glosátor amerického běžného d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ejznámější jsou jeho sloupky o amerických prezident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á bystré postřehy Američana o Evrop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dává soubory svých sloupků po celém svět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ostal Pulitzerovu ce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jet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 francouzštiny „ la feuille“ - lísteček,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ůvodní označení části lis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prvé ve Francii v době buržoazní revolu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- dodnes označuje v evropském systému novinových vydání jenu část listu, v níž jsou otištěny eseje, cestopisné črty, úvahy, recenze a názorová pubicistika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08:34:59Z</dcterms:created>
  <dc:creator>Nora Dolanská</dc:creator>
  <dc:description/>
  <dc:language>en-US</dc:language>
  <cp:lastModifiedBy>Nora Dolanská</cp:lastModifiedBy>
  <dcterms:modified xsi:type="dcterms:W3CDTF">2002-03-03T15:38:14Z</dcterms:modified>
  <cp:revision>10</cp:revision>
  <dc:subject/>
  <dc:title>Sloupek, fejeton</dc:title>
</cp:coreProperties>
</file>